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14.tif" ContentType="image/tiff"/>
  <Override PartName="/ppt/media/image26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5BD26-DEC5-4122-8868-E042AE9690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7EFCC-DE78-4AE8-8F46-DAF2F622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C44F32-22AC-452E-9C56-68C58A74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C3D127-ADB2-4BE7-8E91-1230FD2F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819A42-D011-4FE4-A678-258F3F46F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43A9B7-89B1-4220-8307-02972C1F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B83679-E313-4357-BF70-20162559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FA83DE-E633-4312-ACB5-DBD3B5AF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93BF4D-15C9-4A9B-A7E0-A3B983B7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2831F5-D7C8-4066-9C2F-5FC3BE74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977325-69DD-4B1E-94A4-6B49A67352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FFFB8-60B7-486D-8F0E-CD00C718F3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4F6C0-BC35-4D65-9133-6A63DE38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5391D-2B33-4DC6-9A0D-79F19075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B7F3E-82F4-442A-A983-08AF8CD7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50DD2-6AD3-44E9-A35B-3676E419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D0C00-95F9-4C2A-A766-389757A9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B0C50-87F8-45C2-84D4-2CAE80C4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3247F-6DA5-49CC-92A4-1360CA8B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BF9AF-5D71-4F6B-BE25-FAE4E0FC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4F201-B021-437D-8004-BEFC3A81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B51EC-7F81-4BBD-B3E3-94A70637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41C1E-1269-42FE-9A73-F0014EB6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1D1AB-498F-4C82-BD5D-B23B96AD39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47DCD-C4FE-47D0-BCB8-0F054230E3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8FBAFB-5FFC-45FF-A2AC-2B8106678F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58FF66-C21A-4C36-A6C9-8F7D79DF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EBBB6A-7665-4B0C-8706-5CC4E440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0D6448-7D89-4608-A296-983C02AB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7289C5-811D-475B-868E-BB35ECB4F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483164-04D3-47D1-99B7-89BACDAE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B5B697-5F53-4A0A-BB6A-2AE635DB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80F4FD-6B85-4442-A7BB-F083F4CF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1AD843-D715-44FF-930D-69151ADA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1C58A-2598-4FD1-A7F1-E012A6461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551151-75D4-4592-B91A-8377E96E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28F1B2-F412-4554-B266-1D1E3A0E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154430-9F6C-4E29-9D83-B0A0BCB193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AC7EAC-BDB8-46DC-89A1-8030437D71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E23CD2-D4BC-4B2F-A291-3F21FA81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EBF142-A952-497B-B22D-AD8B9BEA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9BDD46-FF2A-4640-BD0D-920FE8D8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45906D-D171-48F4-8318-8F4A19224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049B7B-EF42-4140-BA1A-4E9A6FF01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4C8982-59D4-4091-BE05-7B486583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AC1A3-FDC6-4DD3-BADC-867FDB3E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866B13-B09C-4499-92DD-0F79E9E6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E9D2E2-CA68-49AC-BD0A-EFD70356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97E837-EF2C-49FE-9679-F5A005B8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D95416-C98E-4A6F-BD84-F1CB411A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F83376-331A-485F-A6C6-2EF0FBCA92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3F97D-47E7-4EB2-B8BF-BC372E2DB6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B0EE4-D1B7-4275-AF3A-58E695EC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CFEF5-06C5-4B05-8AD4-C70B149A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C7745-530B-4C57-81CB-BACE7ABE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6834C-DF68-4C98-82E3-BA09585E3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88A0F-927D-4198-AD8B-FB16B7F0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C0197-CDBF-4B14-9727-D0FC7506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0A2C4-87DE-4FE3-BD59-5A20EF43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2107F-2568-483E-BAC1-6149224B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77291-F088-4B6A-B902-20948711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AA1FD-C790-4366-AC88-D3AFA1BB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DD364-7CDC-4B1B-8544-014A5970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983E4-CB7B-4ED3-B7E0-32C6E572F7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D04B4-BCA8-4BFC-B2B0-6BDE8B2B2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66674-D0CF-4E24-930E-5992DED9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EB2F47-3EB9-471C-AEB8-35532F29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13028-3D32-4148-843A-105DE4C0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76062-EB94-4B39-BA02-DD3D43E7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38FD6C-F0D8-453A-8ED8-676B5E7E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93F52A-C78A-4D24-A1EE-9EB235BD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09CA2-250D-49E6-9829-26A71753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C77E31-9BF3-4ED3-8A77-9A996711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DC3F6-C7AD-41BA-A7BB-E0A9631D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6D355-7392-44AB-B75D-BDADBDCA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2C37D-1E85-4469-80FD-B5A27D83E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DE1FC-0672-4368-9288-813DB2ED3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54C74-BFD6-48E9-90E5-7B8F1794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5138C-8AA0-4164-A790-B9119E74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F3A19-8BD3-4E27-AA54-55138AA9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2F7B5-F78F-4BC7-AD6F-2CABBBBF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6422F-E890-42B3-BF3B-687D3D43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C8809-78BD-4879-B746-942635E9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150A0-8812-4DAC-9EE5-EABBB282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F0716-2209-46C0-BE0F-22F6C4F2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F6F79-6653-4B4E-98D9-3771455E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96E03-F576-4C88-AAD4-C86F6486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91F9C-E811-4828-873B-3CBACBA3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9CE93-E6CD-4876-84ED-AE709F397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09B46-8E3E-43E9-9C5C-11ABFD17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304A7E-C5AE-4289-95A4-D2D68497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6F0B0-20FB-4B37-B25C-6EE1AE10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C8823-A4CE-44AD-B3B3-643A990E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9446CC-3E20-40A0-A8EA-D59A8EF0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6440D9-B221-45C1-80FC-BF5D49E6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27DDE1-49E7-43BE-980A-A8667DC9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16CA27-FEF5-42B4-8EED-4B284059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F838D-05FD-48F6-B3F3-F3F8B5BD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D2A3F-97B9-4F0C-A69E-6358EC14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7501A-5933-432A-A609-4263EE60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94A6D-C6DE-41E0-A67B-B337100E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90A62-B89E-4543-B535-64ECFF33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F1DAA-27C6-4EB3-BC86-CFB989142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CC4A0C-EC8E-455D-99EB-3D8723647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DCE24C-AE3A-4015-AE8D-11834156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6AD1EA-05D1-40B1-99F5-5F3B7FA8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3B39E3-6C63-41F6-A2AC-F41B28B7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E724E7-9F94-48A0-ACBA-37D3076E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77CBAA-B047-4737-A7F7-830A9A73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506FAB-10CE-4E46-8511-E82EB07F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C81EEA-9E0A-448F-8A0A-8C5CC89F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E4FF0-E575-41E3-A0ED-B13AE835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85B48-6156-480E-8997-A332DB2D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741329-2705-4CBA-A7E5-4D09DD66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23EE9D-A12A-4080-8022-315B0B0C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DB39AE-7393-49CB-82C5-5C8D8A4A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26C476-88B0-473A-87E8-87D40092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E9A0FD-BE90-4A62-A5FF-3E8209454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F0AF83-DC8C-4D19-B341-6B5F662A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3F0C22-3042-4EFB-AC98-FDC2E97F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97BDB2-6B62-45BE-978F-6C3745C2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4EED6B-6110-4D3F-BD99-204256E4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61F25D-A3F4-4723-90AB-6FE92B23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4CD4F-F0DF-496A-BA72-CCF0F9D7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2510BA-B4ED-4CFF-B5F1-EDCB3EAD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ABA457-D29E-4B00-B149-80BEDFCA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1D1320-B6F8-40F5-B5A9-A9601F1B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34EB8D-654E-4FD0-8FFA-62DFDA87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0CACFB-5B1B-4A48-8B26-0DDC1D41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0A7B4A-6654-468A-9A0F-F18A2E59E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F3CEEE-DE4A-43EA-9FA1-3C5AFB33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3B9C1A-A0FA-4B57-B77F-77404A6A5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224034-9B28-4F36-BBCD-8643DE5F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0A5AAA-4828-44A0-B964-9E8343DA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2CFFA-FA36-4836-A927-7EF2BFD3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5B667D-BEF6-4B82-8E83-2E50ACA0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3D9E51-DC61-4282-93BC-2AC287F6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34235B-B833-4E50-B781-FFB1C65F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DE45AA-4BD8-419C-A85F-0F1E5EE7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F1A683-D307-46C2-83F3-30178387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D847F3-7E13-47CE-8CAF-821045CD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B96B96-86B9-4A1C-8992-8A20EA0D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F4A793-CB3A-4931-B7BA-5ECC7474C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F5D1E5-9162-4180-BB97-AA42FFA7F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4EFACC-FE7E-4A8A-A5AD-C8CE565D0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FA02B-A877-4AA4-83DD-76E8DB99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3E57C1-C7EA-41AA-8C08-A50CBCD9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E78B3D-3B4F-4955-92E6-6605E479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129117-7970-424D-9455-CE1DE1CA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1103F2-6BB8-409C-BD8A-EAA91B95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074943-F155-4AAC-AA22-97B6F174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E639C0-A6FE-4923-8B98-329CB693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728984-1B3B-46A1-877C-C11B3764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BBCF9F-AD93-49FC-819F-03F0FEF8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372EBF-9D2D-4F55-92AA-772848F7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B32FA8-B2DC-439C-B251-7D0CF893F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A3981-B55D-48A6-B999-8ACC7240B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634994-F0D7-4EAC-B6B0-FB624395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54DA6F-C5A8-478D-A111-07C4E3B5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2F6E41-505B-4921-B3CE-9D3456CA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1A5FFF-3533-4F24-89B6-F1F536F2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66B5E2-4DD6-4921-B466-14C2AD90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470138-CECE-4EDE-A884-CAB2B958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FB9AD1-D27A-44D5-B562-35A88758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1B9EE8-EF45-45BD-97AD-C0E383B3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ED27D8-A80E-4831-A797-1E6ADEF6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5C925A-2638-47DE-A437-64136782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369FF7-665F-41AC-B8EB-0D8CDBF6D5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D13C77-ED12-46E4-9B0A-D165CF89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504DB3-52B9-4B03-AFCE-BC714266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2526C3-9494-41BB-B9EC-B300524A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C7D630-2777-4341-B5DF-CA9696565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D224E8-31C7-409A-9814-53DAF43C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2AFE37-FB77-4A5D-BA77-B14D50D7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EA559E-5F16-4846-9C2A-1208AF05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D906F0-8C96-4EDE-A129-665CE0F6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107A45-30F1-4AE6-BC71-A392D1AB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85268F-2CFD-46CF-8DAB-1FB3C2D3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F61FBF-DC30-4B60-A021-E998DADF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8C7299-EA9E-46B1-8873-F4CA9B43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DD5F3F-A066-482E-9787-424E4D98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D54B7C-CB59-4ED3-B125-D67170B6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CC30B1-FDED-49B8-8576-DBC280B83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A00CA2-9906-4BB7-8D5A-73D8ACD78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0D7094-2323-4584-9778-E57BB4ED5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B05802-D10D-4B94-ADD7-5C2337BA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3EAFAD-4687-4428-8BA2-D576141D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700A1B-4D6D-4521-9720-E6D934D3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ECC0B5-5008-4481-BC3B-C97BB863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68DB88-678A-44BA-B0FD-2CCE8B53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1607B3-305D-4170-876E-4C7D658C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15E81B-C354-4361-A0A1-7859BA1E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DD1C85-B4E2-407C-99B0-96401B47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FE8B36-4D29-4B74-8BC5-305F0C1E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E11528-2B8D-4CF4-950A-12FF38EF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6D56CE-ADB7-49E6-A384-247083EB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7EBC16-18C7-415F-8C20-89CF89D61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3B825A-B0A4-4B88-8061-5947A1C0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50561B-7222-4003-BB5F-E709DCAF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2D963C-3207-425C-8DCB-6B954740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65B062-9CFA-4FCC-A663-1F2CE24D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B3A511-8198-48F3-853B-E6E4646C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E10940-2A0F-4767-8BF5-24753F28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09D86A-EA35-4BF9-99C5-AE355C47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523CB9-1C25-47CF-9DDB-69DF7CF0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475DE7-A0F3-43B4-9324-C4A35B28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A9A609-0A85-46AE-9FE4-5D545215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8DC0F8-3D37-490C-B3D3-AC820989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B1A82E-F8E3-40FA-9F4D-CE6131695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638EE9-2B55-4F13-9801-76C95965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2C8B8C-17AC-4D92-A3C8-2FB57D1F8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67275-D0AC-4DEE-B14F-F8A211C0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2EA7E2-46A4-469C-951E-AAABEB0D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81A9E5-B48F-498D-97B6-C6BD8E9E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87EF2B-AF92-4296-A72B-DC9361E8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C06F3A-3BBE-40D3-8F03-28C003F7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5C21AB-932E-4AC3-A4D9-DB10D018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1E311C-3347-478E-8156-BEDD2D7F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E1036A-0A13-4474-86D5-3CE79FF391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CFFB5-0C78-4F4A-8AF6-6BB3EB3751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56660-0A6C-4699-AEEC-64FBF98C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0D206-0687-4F03-AF50-EE4427E6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28925-6444-46FD-9BDE-85F82A59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422B9-6AE9-4710-A81F-A8085576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78E91-660C-46DC-B3F9-68A7BBD4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788AF-9447-45B8-BD5C-90A407B6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25C0D-BE23-4F0B-906E-DA9EDD42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91C7A-9BAC-4272-AB62-1338CC28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7CEA7-FCCA-4D1C-92DE-ED6E3AE0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BE142-A887-42F9-AEFF-54A950BD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18FB0-C6F4-4A4E-B5A3-4C3DEF9A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2F04A-C74C-4766-9E08-D71755BA5C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62143D-055C-43D2-A516-F9F9411C0C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C9C59-9280-4D9B-A675-B08B8EBF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00C739-8EC5-4535-8B83-BDD7DAD0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BC23A5-6FC2-4F31-95D1-CDA29CFB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7CA6A8-5273-4C14-AE09-E6A51AC5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20ABB5-9167-4618-A491-2AF6A0F2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BC5EAE-6885-486B-8DD0-B2C9BF68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D64896-FF27-4CDB-BA90-AB3B7F31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11C3C5-D496-4781-90E4-C6A26563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0E1C9A-3A12-4800-8A8E-2578DCFA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C546F3-FE56-4C30-9CE4-FDC8E19B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37D2FC-5755-43E5-BFF7-B3CCF77D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94008-8D68-44E4-8649-B62C9FB63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FD4483-A432-48ED-8B2F-92D8596182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8B1DDD-2084-48F1-BF99-281AF5E31D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AE5E27-E37D-4562-9A13-799E1920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132AF9-629D-491F-88DE-B451E58C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DAF801-E34E-46A0-94F6-4207A5C3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C0D835-A604-419E-A43A-FEDB96F3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6DCE5F-68BD-4A20-9554-BC3E03BB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FA3F26-C3C6-4635-83FC-E5D5534D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264D5E-1E10-4D01-AAF1-A6DF891B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211F28-DF0C-4206-AB8C-902B4151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65443-E9D9-46DF-9FCC-71ED210F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2016F8-BAC2-49C0-804F-99D94D8A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B32569-C1BF-4F48-9F50-9A9F2B7C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BB96AA-ACAC-48F0-B247-C8A186B7DB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E814F-2D73-4CCE-9E25-0E05F9ADD6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29925-A09C-4E9F-A9B6-C98FDD9C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C4AFB-7D0B-4142-A523-2129B07D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58872-AB62-4FBD-925E-F61B79AE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4AB6B-5178-431E-B772-1255068B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8A608-77FB-418E-93BF-FC73044F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10275-2144-49F5-924B-AA2DB480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7D61F-0993-4815-8154-5DA2451F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854C3-1AD5-4ACC-8D68-84C96804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347EF-98A7-49C6-BAC9-092D5624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3F455-EE8E-40B7-BB30-5F1771D7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62BB3-27FB-4C95-85B3-CE068D6F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F8A8A-56D6-4B8C-83FA-FC93CC091E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D7D8B8-33A6-47A8-ACB1-CE8CD90CC4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AA9530-2D08-4F48-BF68-14938B9A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ED04B6-09E8-4D68-9E1F-62497C21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46B0D2-2370-46A7-A7BC-40E6946A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9F3EC7-5F17-4938-91F4-F115BC05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A390C-A1FC-4E40-8EB2-EF0DA5A4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57EA02-C285-491E-856F-D1A0E829F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3B2CC6-6AE8-4F4D-A3A3-14762B42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11F128-E21D-473E-BCFF-6FA4F18D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84A89B-4DE2-4BDE-8B71-053084B3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77C6E8-32EB-4D79-9442-1384951E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95E869-E60F-4836-94B0-05EEBDA1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21DEAD-11E6-43A6-B4A0-B7D5689445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03B214-9068-4209-92CA-1CECED855F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2ED634-20D3-4E87-A181-AC9D6208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53919E-BEE3-4C3A-A7D7-FD3A4D95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C90E-CB6C-44A1-97D5-63FE8B2E675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3A38-F43A-4CA6-B961-2DCBA18B49E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ED95-87F5-4072-8B07-7851FEB2B4B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C523-6480-48FB-86B8-9A4372064BE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0879-13B4-47C1-B571-921D010B2DF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7B4C-01BC-4AD1-ABB3-9DD082BD8CB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9195-D4A4-4DF0-95A4-5F7054D83B6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BB54-F5B3-471D-97D1-A932B64F7C7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25DF-D939-47F9-8583-CF33B204BC3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2D16-9495-4ECA-B805-1C487F5C72D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D27D-1203-4D14-A9E1-07ACFCAAB7B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21AF-487D-4D94-A688-2AD2D603AD6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F689-1E98-48C8-A153-9B938E52226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2D4E-1E76-4BAF-89EE-C71C51A6998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F9A9-0168-4E39-B6D6-8763B34361A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06D4-4F03-4595-9078-4841497A11F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98DE-5BB7-4BC7-903C-8BAF4D4860F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6D62-0A4E-4F34-84D3-A6E4AD6B75B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BBA4-E3CC-4F9E-846E-C4F6D2BD12D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2C6B-20AD-4D61-AEF1-FD82DB8927B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4E78-6BB6-49B8-8060-D412ACA2C06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A540-825F-48F3-B208-D95A638B8B6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A5B8-296C-4EFB-9951-FED244E701A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5CBD-E8FA-402A-B5F4-1097CF9EA58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1.png"/><Relationship Id="rId20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4.tif"/><Relationship Id="rId9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3.jpeg"/><Relationship Id="rId9" Type="http://schemas.openxmlformats.org/officeDocument/2006/relationships/image" Target="../media/image11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"/>
          <p:cNvGrpSpPr/>
          <p:nvPr/>
        </p:nvGrpSpPr>
        <p:grpSpPr>
          <a:xfrm>
            <a:off x="2284560" y="2448000"/>
            <a:ext cx="4333680" cy="360"/>
            <a:chOff x="2284560" y="2448000"/>
            <a:chExt cx="4333680" cy="360"/>
          </a:xfrm>
        </p:grpSpPr>
        <p:sp>
          <p:nvSpPr>
            <p:cNvPr id="987" name="Line 10"/>
            <p:cNvSpPr/>
            <p:nvPr/>
          </p:nvSpPr>
          <p:spPr>
            <a:xfrm>
              <a:off x="2284560" y="2448000"/>
              <a:ext cx="43336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>
              <a:off x="2284560" y="2448000"/>
              <a:ext cx="4333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9"/>
          <p:cNvSpPr/>
          <p:nvPr/>
        </p:nvSpPr>
        <p:spPr>
          <a:xfrm>
            <a:off x="-146160" y="1744560"/>
            <a:ext cx="62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 的 认 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5"/>
          <p:cNvSpPr/>
          <p:nvPr/>
        </p:nvSpPr>
        <p:spPr>
          <a:xfrm>
            <a:off x="2898720" y="271620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6"/>
          <p:cNvSpPr/>
          <p:nvPr/>
        </p:nvSpPr>
        <p:spPr>
          <a:xfrm>
            <a:off x="2355840" y="2666880"/>
            <a:ext cx="651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倍 的 认 识（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三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306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7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308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09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0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1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16" name="文本框 99"/>
          <p:cNvSpPr/>
          <p:nvPr/>
        </p:nvSpPr>
        <p:spPr>
          <a:xfrm>
            <a:off x="365040" y="722160"/>
            <a:ext cx="83376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列式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 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是多少？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 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文本框 10"/>
          <p:cNvSpPr/>
          <p:nvPr/>
        </p:nvSpPr>
        <p:spPr>
          <a:xfrm>
            <a:off x="1650960" y="2647800"/>
            <a:ext cx="193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=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文本框 3"/>
          <p:cNvSpPr/>
          <p:nvPr/>
        </p:nvSpPr>
        <p:spPr>
          <a:xfrm>
            <a:off x="5973840" y="2647800"/>
            <a:ext cx="193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=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9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32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1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322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23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4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2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30" name="文本框 99"/>
          <p:cNvSpPr/>
          <p:nvPr/>
        </p:nvSpPr>
        <p:spPr>
          <a:xfrm>
            <a:off x="365040" y="1046160"/>
            <a:ext cx="810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3040" indent="-20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 妈妈买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千克苹果，买的梨是苹果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，   妈妈买了多少千克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文本框 10"/>
          <p:cNvSpPr/>
          <p:nvPr/>
        </p:nvSpPr>
        <p:spPr>
          <a:xfrm>
            <a:off x="3083040" y="2344680"/>
            <a:ext cx="27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=20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千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文本框 3"/>
          <p:cNvSpPr/>
          <p:nvPr/>
        </p:nvSpPr>
        <p:spPr>
          <a:xfrm>
            <a:off x="2219400" y="3535200"/>
            <a:ext cx="4705200" cy="10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答：妈妈买了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千克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01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Text Box 30"/>
          <p:cNvSpPr/>
          <p:nvPr/>
        </p:nvSpPr>
        <p:spPr>
          <a:xfrm>
            <a:off x="1403280" y="1760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第一行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0" name="Group 58"/>
          <p:cNvGrpSpPr/>
          <p:nvPr/>
        </p:nvGrpSpPr>
        <p:grpSpPr>
          <a:xfrm>
            <a:off x="2576520" y="1657440"/>
            <a:ext cx="840960" cy="812520"/>
            <a:chOff x="2576520" y="1657440"/>
            <a:chExt cx="840960" cy="812520"/>
          </a:xfrm>
        </p:grpSpPr>
        <p:pic>
          <p:nvPicPr>
            <p:cNvPr id="1011" name="Picture 59" descr="58"/>
            <p:cNvPicPr/>
            <p:nvPr/>
          </p:nvPicPr>
          <p:blipFill>
            <a:blip r:embed="rId8"/>
            <a:stretch/>
          </p:blipFill>
          <p:spPr>
            <a:xfrm>
              <a:off x="2576520" y="1665720"/>
              <a:ext cx="582480" cy="80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2" name="Picture 60" descr="58"/>
            <p:cNvPicPr/>
            <p:nvPr/>
          </p:nvPicPr>
          <p:blipFill>
            <a:blip r:embed="rId9"/>
            <a:stretch/>
          </p:blipFill>
          <p:spPr>
            <a:xfrm>
              <a:off x="2835000" y="1657440"/>
              <a:ext cx="582480" cy="80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3" name="Group 106"/>
          <p:cNvGrpSpPr/>
          <p:nvPr/>
        </p:nvGrpSpPr>
        <p:grpSpPr>
          <a:xfrm>
            <a:off x="1403280" y="2689200"/>
            <a:ext cx="4424040" cy="812160"/>
            <a:chOff x="1403280" y="2689200"/>
            <a:chExt cx="4424040" cy="812160"/>
          </a:xfrm>
        </p:grpSpPr>
        <p:sp>
          <p:nvSpPr>
            <p:cNvPr id="1014" name="Text Box 31"/>
            <p:cNvSpPr/>
            <p:nvPr/>
          </p:nvSpPr>
          <p:spPr>
            <a:xfrm>
              <a:off x="1403280" y="27860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第二行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5" name="Group 105"/>
            <p:cNvGrpSpPr/>
            <p:nvPr/>
          </p:nvGrpSpPr>
          <p:grpSpPr>
            <a:xfrm>
              <a:off x="2576520" y="2689200"/>
              <a:ext cx="3250800" cy="812160"/>
              <a:chOff x="2576520" y="2689200"/>
              <a:chExt cx="3250800" cy="812160"/>
            </a:xfrm>
          </p:grpSpPr>
          <p:grpSp>
            <p:nvGrpSpPr>
              <p:cNvPr id="1016" name="Group 93"/>
              <p:cNvGrpSpPr/>
              <p:nvPr/>
            </p:nvGrpSpPr>
            <p:grpSpPr>
              <a:xfrm>
                <a:off x="2576520" y="2689200"/>
                <a:ext cx="840960" cy="812160"/>
                <a:chOff x="2576520" y="2689200"/>
                <a:chExt cx="840960" cy="812160"/>
              </a:xfrm>
            </p:grpSpPr>
            <p:pic>
              <p:nvPicPr>
                <p:cNvPr id="1017" name="Picture 94" descr="58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576520" y="2697480"/>
                  <a:ext cx="582480" cy="803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8" name="Picture 95" descr="58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835000" y="2689200"/>
                  <a:ext cx="582480" cy="803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19" name="Group 96"/>
              <p:cNvGrpSpPr/>
              <p:nvPr/>
            </p:nvGrpSpPr>
            <p:grpSpPr>
              <a:xfrm>
                <a:off x="3376440" y="2689200"/>
                <a:ext cx="841680" cy="812160"/>
                <a:chOff x="3376440" y="2689200"/>
                <a:chExt cx="841680" cy="812160"/>
              </a:xfrm>
            </p:grpSpPr>
            <p:pic>
              <p:nvPicPr>
                <p:cNvPr id="1020" name="Picture 97" descr="58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3376440" y="2697480"/>
                  <a:ext cx="582840" cy="803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1" name="Picture 98" descr="58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3635280" y="2689200"/>
                  <a:ext cx="582840" cy="803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22" name="Group 99"/>
              <p:cNvGrpSpPr/>
              <p:nvPr/>
            </p:nvGrpSpPr>
            <p:grpSpPr>
              <a:xfrm>
                <a:off x="4176720" y="2689200"/>
                <a:ext cx="840960" cy="812160"/>
                <a:chOff x="4176720" y="2689200"/>
                <a:chExt cx="840960" cy="812160"/>
              </a:xfrm>
            </p:grpSpPr>
            <p:pic>
              <p:nvPicPr>
                <p:cNvPr id="1023" name="Picture 100" descr="58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4176720" y="2697480"/>
                  <a:ext cx="582480" cy="803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4" name="Picture 101" descr="58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4435200" y="2689200"/>
                  <a:ext cx="582480" cy="803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25" name="Group 102"/>
              <p:cNvGrpSpPr/>
              <p:nvPr/>
            </p:nvGrpSpPr>
            <p:grpSpPr>
              <a:xfrm>
                <a:off x="4986360" y="2689200"/>
                <a:ext cx="840960" cy="812160"/>
                <a:chOff x="4986360" y="2689200"/>
                <a:chExt cx="840960" cy="812160"/>
              </a:xfrm>
            </p:grpSpPr>
            <p:pic>
              <p:nvPicPr>
                <p:cNvPr id="1026" name="Picture 103" descr="58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4986360" y="2697480"/>
                  <a:ext cx="582480" cy="803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7" name="Picture 104" descr="58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5244840" y="2689200"/>
                  <a:ext cx="582480" cy="803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028" name="组合 37"/>
          <p:cNvGrpSpPr/>
          <p:nvPr/>
        </p:nvGrpSpPr>
        <p:grpSpPr>
          <a:xfrm>
            <a:off x="5030640" y="1230480"/>
            <a:ext cx="3081240" cy="1164960"/>
            <a:chOff x="5030640" y="1230480"/>
            <a:chExt cx="3081240" cy="1164960"/>
          </a:xfrm>
        </p:grpSpPr>
        <p:sp>
          <p:nvSpPr>
            <p:cNvPr id="1029" name="AutoShape 27"/>
            <p:cNvSpPr/>
            <p:nvPr/>
          </p:nvSpPr>
          <p:spPr>
            <a:xfrm>
              <a:off x="5030640" y="1456200"/>
              <a:ext cx="2039760" cy="939240"/>
            </a:xfrm>
            <a:prstGeom prst="wedgeRoundRectCallout">
              <a:avLst>
                <a:gd name="adj1" fmla="val 56847"/>
                <a:gd name="adj2" fmla="val -1418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数一数第一行有几根小棒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0" name="图片 35" descr="]@P`{@U$K{A7A$9804YYMFT"/>
            <p:cNvPicPr/>
            <p:nvPr/>
          </p:nvPicPr>
          <p:blipFill>
            <a:blip r:embed="rId18"/>
            <a:stretch/>
          </p:blipFill>
          <p:spPr>
            <a:xfrm flipH="1">
              <a:off x="7335720" y="1230480"/>
              <a:ext cx="776160" cy="98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1" name="组合 38"/>
          <p:cNvGrpSpPr/>
          <p:nvPr/>
        </p:nvGrpSpPr>
        <p:grpSpPr>
          <a:xfrm>
            <a:off x="1015560" y="4367160"/>
            <a:ext cx="4996440" cy="1339920"/>
            <a:chOff x="1015560" y="4367160"/>
            <a:chExt cx="4996440" cy="1339920"/>
          </a:xfrm>
        </p:grpSpPr>
        <p:sp>
          <p:nvSpPr>
            <p:cNvPr id="1032" name="AutoShape 27"/>
            <p:cNvSpPr/>
            <p:nvPr/>
          </p:nvSpPr>
          <p:spPr>
            <a:xfrm>
              <a:off x="2268720" y="4367160"/>
              <a:ext cx="3743280" cy="496440"/>
            </a:xfrm>
            <a:prstGeom prst="wedgeRoundRectCallout">
              <a:avLst>
                <a:gd name="adj1" fmla="val -56055"/>
                <a:gd name="adj2" fmla="val 5478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二行小棒的根数是第一行的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倍，第二行摆多少根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3" name="图片 36" descr="_4`F[E$PX4I}_~SSZVJ7V4J"/>
            <p:cNvPicPr/>
            <p:nvPr/>
          </p:nvPicPr>
          <p:blipFill>
            <a:blip r:embed="rId19"/>
            <a:stretch/>
          </p:blipFill>
          <p:spPr>
            <a:xfrm flipH="1">
              <a:off x="1015560" y="4367160"/>
              <a:ext cx="883800" cy="1339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3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6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37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8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45" name="Picture 6" descr="D:\我的文档-桌面-收藏夹\桌面\1.jpg"/>
          <p:cNvPicPr/>
          <p:nvPr/>
        </p:nvPicPr>
        <p:blipFill>
          <a:blip r:embed="rId8"/>
          <a:stretch/>
        </p:blipFill>
        <p:spPr>
          <a:xfrm>
            <a:off x="1282680" y="1017720"/>
            <a:ext cx="3422520" cy="2482560"/>
          </a:xfrm>
          <a:prstGeom prst="rect">
            <a:avLst/>
          </a:prstGeom>
          <a:ln w="0">
            <a:noFill/>
          </a:ln>
        </p:spPr>
      </p:pic>
      <p:sp>
        <p:nvSpPr>
          <p:cNvPr id="1046" name="AutoShape 27"/>
          <p:cNvSpPr/>
          <p:nvPr/>
        </p:nvSpPr>
        <p:spPr>
          <a:xfrm>
            <a:off x="4002120" y="874800"/>
            <a:ext cx="3571920" cy="1071360"/>
          </a:xfrm>
          <a:prstGeom prst="wedgeRoundRectCallout">
            <a:avLst>
              <a:gd name="adj1" fmla="val -56972"/>
              <a:gd name="adj2" fmla="val 3964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军棋的价钱是</a:t>
            </a: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8</a:t>
            </a: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元，象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棋的价钱是军棋的</a:t>
            </a: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4</a:t>
            </a: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倍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Box 6"/>
          <p:cNvSpPr/>
          <p:nvPr/>
        </p:nvSpPr>
        <p:spPr>
          <a:xfrm>
            <a:off x="4073400" y="2143080"/>
            <a:ext cx="3571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象棋的价钱是多少元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八边形 3"/>
          <p:cNvSpPr/>
          <p:nvPr/>
        </p:nvSpPr>
        <p:spPr>
          <a:xfrm>
            <a:off x="324000" y="1004760"/>
            <a:ext cx="514080" cy="51768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Box 3"/>
          <p:cNvSpPr/>
          <p:nvPr/>
        </p:nvSpPr>
        <p:spPr>
          <a:xfrm>
            <a:off x="439560" y="3427560"/>
            <a:ext cx="3492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6d86a4"/>
                </a:solidFill>
                <a:latin typeface="Arial"/>
                <a:ea typeface="宋体"/>
              </a:rPr>
              <a:t>阅读与理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0" name=""/>
          <p:cNvGraphicFramePr/>
          <p:nvPr/>
        </p:nvGraphicFramePr>
        <p:xfrm>
          <a:off x="838080" y="4157640"/>
          <a:ext cx="4803840" cy="1554120"/>
        </p:xfrm>
        <a:graphic>
          <a:graphicData uri="http://schemas.openxmlformats.org/drawingml/2006/table">
            <a:tbl>
              <a:tblPr/>
              <a:tblGrid>
                <a:gridCol w="1182600"/>
                <a:gridCol w="36212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已知条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军棋的价钱是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元，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棋的价钱是军棋的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倍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7fbd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所求问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象棋的价钱是多少元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5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3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54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5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6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2" name="TextBox 3"/>
          <p:cNvSpPr/>
          <p:nvPr/>
        </p:nvSpPr>
        <p:spPr>
          <a:xfrm>
            <a:off x="365040" y="844560"/>
            <a:ext cx="3492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70c0"/>
                </a:solidFill>
                <a:latin typeface="Arial"/>
                <a:ea typeface="宋体"/>
              </a:rPr>
              <a:t>分析与解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3" name="组合 31"/>
          <p:cNvGrpSpPr/>
          <p:nvPr/>
        </p:nvGrpSpPr>
        <p:grpSpPr>
          <a:xfrm>
            <a:off x="1685880" y="2357280"/>
            <a:ext cx="2127240" cy="797400"/>
            <a:chOff x="1685880" y="2357280"/>
            <a:chExt cx="2127240" cy="797400"/>
          </a:xfrm>
        </p:grpSpPr>
        <p:sp>
          <p:nvSpPr>
            <p:cNvPr id="1064" name="Text Box 7"/>
            <p:cNvSpPr/>
            <p:nvPr/>
          </p:nvSpPr>
          <p:spPr>
            <a:xfrm>
              <a:off x="1685880" y="2357280"/>
              <a:ext cx="11523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军棋：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5" name="Group 8"/>
            <p:cNvGrpSpPr/>
            <p:nvPr/>
          </p:nvGrpSpPr>
          <p:grpSpPr>
            <a:xfrm>
              <a:off x="2693880" y="2501640"/>
              <a:ext cx="792000" cy="72720"/>
              <a:chOff x="2693880" y="2501640"/>
              <a:chExt cx="792000" cy="72720"/>
            </a:xfrm>
          </p:grpSpPr>
          <p:grpSp>
            <p:nvGrpSpPr>
              <p:cNvPr id="1066" name=""/>
              <p:cNvGrpSpPr/>
              <p:nvPr/>
            </p:nvGrpSpPr>
            <p:grpSpPr>
              <a:xfrm>
                <a:off x="2693880" y="2574000"/>
                <a:ext cx="791640" cy="360"/>
                <a:chOff x="2693880" y="2574000"/>
                <a:chExt cx="791640" cy="360"/>
              </a:xfrm>
            </p:grpSpPr>
            <p:sp>
              <p:nvSpPr>
                <p:cNvPr id="1067" name="Line 9"/>
                <p:cNvSpPr/>
                <p:nvPr/>
              </p:nvSpPr>
              <p:spPr>
                <a:xfrm>
                  <a:off x="2693880" y="2574000"/>
                  <a:ext cx="791640" cy="360"/>
                </a:xfrm>
                <a:prstGeom prst="line">
                  <a:avLst/>
                </a:prstGeom>
                <a:ln w="1908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 txBox="1"/>
                <p:nvPr/>
              </p:nvSpPr>
              <p:spPr>
                <a:xfrm>
                  <a:off x="2693880" y="2574000"/>
                  <a:ext cx="791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9" name=""/>
              <p:cNvGrpSpPr/>
              <p:nvPr/>
            </p:nvGrpSpPr>
            <p:grpSpPr>
              <a:xfrm>
                <a:off x="2693880" y="2501640"/>
                <a:ext cx="360" cy="72360"/>
                <a:chOff x="2693880" y="2501640"/>
                <a:chExt cx="360" cy="72360"/>
              </a:xfrm>
            </p:grpSpPr>
            <p:sp>
              <p:nvSpPr>
                <p:cNvPr id="1070" name="Line 10"/>
                <p:cNvSpPr/>
                <p:nvPr/>
              </p:nvSpPr>
              <p:spPr>
                <a:xfrm>
                  <a:off x="2693880" y="2501640"/>
                  <a:ext cx="360" cy="72360"/>
                </a:xfrm>
                <a:prstGeom prst="line">
                  <a:avLst/>
                </a:prstGeom>
                <a:ln w="1908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 txBox="1"/>
                <p:nvPr/>
              </p:nvSpPr>
              <p:spPr>
                <a:xfrm>
                  <a:off x="2693880" y="2501640"/>
                  <a:ext cx="360" cy="7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560" bIns="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2" name=""/>
              <p:cNvGrpSpPr/>
              <p:nvPr/>
            </p:nvGrpSpPr>
            <p:grpSpPr>
              <a:xfrm>
                <a:off x="3485520" y="2501640"/>
                <a:ext cx="360" cy="72360"/>
                <a:chOff x="3485520" y="2501640"/>
                <a:chExt cx="360" cy="72360"/>
              </a:xfrm>
            </p:grpSpPr>
            <p:sp>
              <p:nvSpPr>
                <p:cNvPr id="1073" name="Line 11"/>
                <p:cNvSpPr/>
                <p:nvPr/>
              </p:nvSpPr>
              <p:spPr>
                <a:xfrm>
                  <a:off x="3485520" y="2501640"/>
                  <a:ext cx="360" cy="72360"/>
                </a:xfrm>
                <a:prstGeom prst="line">
                  <a:avLst/>
                </a:prstGeom>
                <a:ln w="1908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 txBox="1"/>
                <p:nvPr/>
              </p:nvSpPr>
              <p:spPr>
                <a:xfrm>
                  <a:off x="3485520" y="2501640"/>
                  <a:ext cx="360" cy="7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560" bIns="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75" name="AutoShape 12"/>
            <p:cNvSpPr/>
            <p:nvPr/>
          </p:nvSpPr>
          <p:spPr>
            <a:xfrm rot="16200000">
              <a:off x="3051720" y="2288520"/>
              <a:ext cx="76320" cy="7920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5"/>
                    <a:pt x="10800" y="1789"/>
                  </a:cubicBezTo>
                  <a:lnTo>
                    <a:pt x="10800" y="9011"/>
                  </a:lnTo>
                  <a:cubicBezTo>
                    <a:pt x="10800" y="9906"/>
                    <a:pt x="5400" y="10800"/>
                    <a:pt x="0" y="10800"/>
                  </a:cubicBezTo>
                  <a:cubicBezTo>
                    <a:pt x="5400" y="10800"/>
                    <a:pt x="10800" y="11695"/>
                    <a:pt x="10800" y="12589"/>
                  </a:cubicBezTo>
                  <a:lnTo>
                    <a:pt x="10800" y="19811"/>
                  </a:lnTo>
                  <a:cubicBezTo>
                    <a:pt x="10800" y="20706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Text Box 13"/>
            <p:cNvSpPr/>
            <p:nvPr/>
          </p:nvSpPr>
          <p:spPr>
            <a:xfrm>
              <a:off x="2805120" y="2679840"/>
              <a:ext cx="10080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8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元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组合 33"/>
          <p:cNvGrpSpPr/>
          <p:nvPr/>
        </p:nvGrpSpPr>
        <p:grpSpPr>
          <a:xfrm>
            <a:off x="3286080" y="3286080"/>
            <a:ext cx="2143080" cy="500040"/>
            <a:chOff x="3286080" y="3286080"/>
            <a:chExt cx="2143080" cy="500040"/>
          </a:xfrm>
        </p:grpSpPr>
        <p:sp>
          <p:nvSpPr>
            <p:cNvPr id="1078" name="AutoShape 32"/>
            <p:cNvSpPr/>
            <p:nvPr/>
          </p:nvSpPr>
          <p:spPr>
            <a:xfrm>
              <a:off x="3292200" y="3286080"/>
              <a:ext cx="2136960" cy="500040"/>
            </a:xfrm>
            <a:prstGeom prst="flowChartTerminator">
              <a:avLst/>
            </a:prstGeom>
            <a:noFill/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Text Box 33"/>
            <p:cNvSpPr/>
            <p:nvPr/>
          </p:nvSpPr>
          <p:spPr>
            <a:xfrm>
              <a:off x="3286080" y="3286080"/>
              <a:ext cx="2033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是军棋的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4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倍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组合 32"/>
          <p:cNvGrpSpPr/>
          <p:nvPr/>
        </p:nvGrpSpPr>
        <p:grpSpPr>
          <a:xfrm>
            <a:off x="1685880" y="3622680"/>
            <a:ext cx="4181400" cy="984960"/>
            <a:chOff x="1685880" y="3622680"/>
            <a:chExt cx="4181400" cy="984960"/>
          </a:xfrm>
        </p:grpSpPr>
        <p:sp>
          <p:nvSpPr>
            <p:cNvPr id="1081" name="Text Box 14"/>
            <p:cNvSpPr/>
            <p:nvPr/>
          </p:nvSpPr>
          <p:spPr>
            <a:xfrm>
              <a:off x="1685880" y="3622680"/>
              <a:ext cx="11523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象棋：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2" name="Group 15"/>
            <p:cNvGrpSpPr/>
            <p:nvPr/>
          </p:nvGrpSpPr>
          <p:grpSpPr>
            <a:xfrm>
              <a:off x="3485880" y="3910320"/>
              <a:ext cx="792000" cy="72720"/>
              <a:chOff x="3485880" y="3910320"/>
              <a:chExt cx="792000" cy="72720"/>
            </a:xfrm>
          </p:grpSpPr>
          <p:grpSp>
            <p:nvGrpSpPr>
              <p:cNvPr id="1083" name=""/>
              <p:cNvGrpSpPr/>
              <p:nvPr/>
            </p:nvGrpSpPr>
            <p:grpSpPr>
              <a:xfrm>
                <a:off x="3485880" y="3982680"/>
                <a:ext cx="791640" cy="360"/>
                <a:chOff x="3485880" y="3982680"/>
                <a:chExt cx="791640" cy="360"/>
              </a:xfrm>
            </p:grpSpPr>
            <p:sp>
              <p:nvSpPr>
                <p:cNvPr id="1084" name="Line 16"/>
                <p:cNvSpPr/>
                <p:nvPr/>
              </p:nvSpPr>
              <p:spPr>
                <a:xfrm>
                  <a:off x="3485880" y="3982680"/>
                  <a:ext cx="791640" cy="360"/>
                </a:xfrm>
                <a:prstGeom prst="line">
                  <a:avLst/>
                </a:prstGeom>
                <a:ln w="1908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 txBox="1"/>
                <p:nvPr/>
              </p:nvSpPr>
              <p:spPr>
                <a:xfrm>
                  <a:off x="3485880" y="3982680"/>
                  <a:ext cx="791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3485880" y="3910320"/>
                <a:ext cx="360" cy="72360"/>
                <a:chOff x="3485880" y="3910320"/>
                <a:chExt cx="360" cy="72360"/>
              </a:xfrm>
            </p:grpSpPr>
            <p:sp>
              <p:nvSpPr>
                <p:cNvPr id="1087" name="Line 17"/>
                <p:cNvSpPr/>
                <p:nvPr/>
              </p:nvSpPr>
              <p:spPr>
                <a:xfrm>
                  <a:off x="3485880" y="3910320"/>
                  <a:ext cx="360" cy="72360"/>
                </a:xfrm>
                <a:prstGeom prst="line">
                  <a:avLst/>
                </a:prstGeom>
                <a:ln w="1908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 txBox="1"/>
                <p:nvPr/>
              </p:nvSpPr>
              <p:spPr>
                <a:xfrm>
                  <a:off x="3485880" y="3910320"/>
                  <a:ext cx="360" cy="7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560" bIns="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4277520" y="3910320"/>
                <a:ext cx="360" cy="72360"/>
                <a:chOff x="4277520" y="3910320"/>
                <a:chExt cx="360" cy="72360"/>
              </a:xfrm>
            </p:grpSpPr>
            <p:sp>
              <p:nvSpPr>
                <p:cNvPr id="1090" name="Line 18"/>
                <p:cNvSpPr/>
                <p:nvPr/>
              </p:nvSpPr>
              <p:spPr>
                <a:xfrm>
                  <a:off x="4277520" y="3910320"/>
                  <a:ext cx="360" cy="72360"/>
                </a:xfrm>
                <a:prstGeom prst="line">
                  <a:avLst/>
                </a:prstGeom>
                <a:ln w="1908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 txBox="1"/>
                <p:nvPr/>
              </p:nvSpPr>
              <p:spPr>
                <a:xfrm>
                  <a:off x="4277520" y="3910320"/>
                  <a:ext cx="360" cy="7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560" bIns="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2" name="Group 19"/>
            <p:cNvGrpSpPr/>
            <p:nvPr/>
          </p:nvGrpSpPr>
          <p:grpSpPr>
            <a:xfrm>
              <a:off x="2693880" y="3910320"/>
              <a:ext cx="792000" cy="72720"/>
              <a:chOff x="2693880" y="3910320"/>
              <a:chExt cx="792000" cy="72720"/>
            </a:xfrm>
          </p:grpSpPr>
          <p:grpSp>
            <p:nvGrpSpPr>
              <p:cNvPr id="1093" name=""/>
              <p:cNvGrpSpPr/>
              <p:nvPr/>
            </p:nvGrpSpPr>
            <p:grpSpPr>
              <a:xfrm>
                <a:off x="2693880" y="3982680"/>
                <a:ext cx="791640" cy="360"/>
                <a:chOff x="2693880" y="3982680"/>
                <a:chExt cx="791640" cy="360"/>
              </a:xfrm>
            </p:grpSpPr>
            <p:sp>
              <p:nvSpPr>
                <p:cNvPr id="1094" name="Line 20"/>
                <p:cNvSpPr/>
                <p:nvPr/>
              </p:nvSpPr>
              <p:spPr>
                <a:xfrm>
                  <a:off x="2693880" y="3982680"/>
                  <a:ext cx="791640" cy="360"/>
                </a:xfrm>
                <a:prstGeom prst="line">
                  <a:avLst/>
                </a:prstGeom>
                <a:ln w="1908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 txBox="1"/>
                <p:nvPr/>
              </p:nvSpPr>
              <p:spPr>
                <a:xfrm>
                  <a:off x="2693880" y="3982680"/>
                  <a:ext cx="791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6" name=""/>
              <p:cNvGrpSpPr/>
              <p:nvPr/>
            </p:nvGrpSpPr>
            <p:grpSpPr>
              <a:xfrm>
                <a:off x="2693880" y="3910320"/>
                <a:ext cx="360" cy="72360"/>
                <a:chOff x="2693880" y="3910320"/>
                <a:chExt cx="360" cy="72360"/>
              </a:xfrm>
            </p:grpSpPr>
            <p:sp>
              <p:nvSpPr>
                <p:cNvPr id="1097" name="Line 21"/>
                <p:cNvSpPr/>
                <p:nvPr/>
              </p:nvSpPr>
              <p:spPr>
                <a:xfrm>
                  <a:off x="2693880" y="3910320"/>
                  <a:ext cx="360" cy="72360"/>
                </a:xfrm>
                <a:prstGeom prst="line">
                  <a:avLst/>
                </a:prstGeom>
                <a:ln w="1908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 txBox="1"/>
                <p:nvPr/>
              </p:nvSpPr>
              <p:spPr>
                <a:xfrm>
                  <a:off x="2693880" y="3910320"/>
                  <a:ext cx="360" cy="7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560" bIns="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9" name=""/>
              <p:cNvGrpSpPr/>
              <p:nvPr/>
            </p:nvGrpSpPr>
            <p:grpSpPr>
              <a:xfrm>
                <a:off x="3485520" y="3910320"/>
                <a:ext cx="360" cy="72360"/>
                <a:chOff x="3485520" y="3910320"/>
                <a:chExt cx="360" cy="72360"/>
              </a:xfrm>
            </p:grpSpPr>
            <p:sp>
              <p:nvSpPr>
                <p:cNvPr id="1100" name="Line 22"/>
                <p:cNvSpPr/>
                <p:nvPr/>
              </p:nvSpPr>
              <p:spPr>
                <a:xfrm>
                  <a:off x="3485520" y="3910320"/>
                  <a:ext cx="360" cy="72360"/>
                </a:xfrm>
                <a:prstGeom prst="line">
                  <a:avLst/>
                </a:prstGeom>
                <a:ln w="1908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 txBox="1"/>
                <p:nvPr/>
              </p:nvSpPr>
              <p:spPr>
                <a:xfrm>
                  <a:off x="3485520" y="3910320"/>
                  <a:ext cx="360" cy="7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560" bIns="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Group 23"/>
            <p:cNvGrpSpPr/>
            <p:nvPr/>
          </p:nvGrpSpPr>
          <p:grpSpPr>
            <a:xfrm>
              <a:off x="4286160" y="3910320"/>
              <a:ext cx="792000" cy="72720"/>
              <a:chOff x="4286160" y="3910320"/>
              <a:chExt cx="792000" cy="72720"/>
            </a:xfrm>
          </p:grpSpPr>
          <p:grpSp>
            <p:nvGrpSpPr>
              <p:cNvPr id="1103" name=""/>
              <p:cNvGrpSpPr/>
              <p:nvPr/>
            </p:nvGrpSpPr>
            <p:grpSpPr>
              <a:xfrm>
                <a:off x="4286160" y="3982680"/>
                <a:ext cx="791640" cy="360"/>
                <a:chOff x="4286160" y="3982680"/>
                <a:chExt cx="791640" cy="360"/>
              </a:xfrm>
            </p:grpSpPr>
            <p:sp>
              <p:nvSpPr>
                <p:cNvPr id="1104" name="Line 24"/>
                <p:cNvSpPr/>
                <p:nvPr/>
              </p:nvSpPr>
              <p:spPr>
                <a:xfrm>
                  <a:off x="4286160" y="3982680"/>
                  <a:ext cx="791640" cy="360"/>
                </a:xfrm>
                <a:prstGeom prst="line">
                  <a:avLst/>
                </a:prstGeom>
                <a:ln w="1908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 txBox="1"/>
                <p:nvPr/>
              </p:nvSpPr>
              <p:spPr>
                <a:xfrm>
                  <a:off x="4286160" y="3982680"/>
                  <a:ext cx="791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6" name=""/>
              <p:cNvGrpSpPr/>
              <p:nvPr/>
            </p:nvGrpSpPr>
            <p:grpSpPr>
              <a:xfrm>
                <a:off x="4286160" y="3910320"/>
                <a:ext cx="360" cy="72360"/>
                <a:chOff x="4286160" y="3910320"/>
                <a:chExt cx="360" cy="72360"/>
              </a:xfrm>
            </p:grpSpPr>
            <p:sp>
              <p:nvSpPr>
                <p:cNvPr id="1107" name="Line 25"/>
                <p:cNvSpPr/>
                <p:nvPr/>
              </p:nvSpPr>
              <p:spPr>
                <a:xfrm>
                  <a:off x="4286160" y="3910320"/>
                  <a:ext cx="360" cy="72360"/>
                </a:xfrm>
                <a:prstGeom prst="line">
                  <a:avLst/>
                </a:prstGeom>
                <a:ln w="1908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 txBox="1"/>
                <p:nvPr/>
              </p:nvSpPr>
              <p:spPr>
                <a:xfrm>
                  <a:off x="4286160" y="3910320"/>
                  <a:ext cx="360" cy="7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560" bIns="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9" name=""/>
              <p:cNvGrpSpPr/>
              <p:nvPr/>
            </p:nvGrpSpPr>
            <p:grpSpPr>
              <a:xfrm>
                <a:off x="5077800" y="3910320"/>
                <a:ext cx="360" cy="72360"/>
                <a:chOff x="5077800" y="3910320"/>
                <a:chExt cx="360" cy="72360"/>
              </a:xfrm>
            </p:grpSpPr>
            <p:sp>
              <p:nvSpPr>
                <p:cNvPr id="1110" name="Line 26"/>
                <p:cNvSpPr/>
                <p:nvPr/>
              </p:nvSpPr>
              <p:spPr>
                <a:xfrm>
                  <a:off x="5077800" y="3910320"/>
                  <a:ext cx="360" cy="72360"/>
                </a:xfrm>
                <a:prstGeom prst="line">
                  <a:avLst/>
                </a:prstGeom>
                <a:ln w="1908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 txBox="1"/>
                <p:nvPr/>
              </p:nvSpPr>
              <p:spPr>
                <a:xfrm>
                  <a:off x="5077800" y="3910320"/>
                  <a:ext cx="360" cy="7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560" bIns="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2" name="Group 27"/>
            <p:cNvGrpSpPr/>
            <p:nvPr/>
          </p:nvGrpSpPr>
          <p:grpSpPr>
            <a:xfrm>
              <a:off x="5075280" y="3910320"/>
              <a:ext cx="792000" cy="72720"/>
              <a:chOff x="5075280" y="3910320"/>
              <a:chExt cx="792000" cy="72720"/>
            </a:xfrm>
          </p:grpSpPr>
          <p:grpSp>
            <p:nvGrpSpPr>
              <p:cNvPr id="1113" name=""/>
              <p:cNvGrpSpPr/>
              <p:nvPr/>
            </p:nvGrpSpPr>
            <p:grpSpPr>
              <a:xfrm>
                <a:off x="5075280" y="3982680"/>
                <a:ext cx="791640" cy="360"/>
                <a:chOff x="5075280" y="3982680"/>
                <a:chExt cx="791640" cy="360"/>
              </a:xfrm>
            </p:grpSpPr>
            <p:sp>
              <p:nvSpPr>
                <p:cNvPr id="1114" name="Line 28"/>
                <p:cNvSpPr/>
                <p:nvPr/>
              </p:nvSpPr>
              <p:spPr>
                <a:xfrm>
                  <a:off x="5075280" y="3982680"/>
                  <a:ext cx="791640" cy="360"/>
                </a:xfrm>
                <a:prstGeom prst="line">
                  <a:avLst/>
                </a:prstGeom>
                <a:ln w="1908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 txBox="1"/>
                <p:nvPr/>
              </p:nvSpPr>
              <p:spPr>
                <a:xfrm>
                  <a:off x="5075280" y="3982680"/>
                  <a:ext cx="791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5075280" y="3910320"/>
                <a:ext cx="360" cy="72360"/>
                <a:chOff x="5075280" y="3910320"/>
                <a:chExt cx="360" cy="72360"/>
              </a:xfrm>
            </p:grpSpPr>
            <p:sp>
              <p:nvSpPr>
                <p:cNvPr id="1117" name="Line 29"/>
                <p:cNvSpPr/>
                <p:nvPr/>
              </p:nvSpPr>
              <p:spPr>
                <a:xfrm>
                  <a:off x="5075280" y="3910320"/>
                  <a:ext cx="360" cy="72360"/>
                </a:xfrm>
                <a:prstGeom prst="line">
                  <a:avLst/>
                </a:prstGeom>
                <a:ln w="1908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"/>
                <p:cNvSpPr txBox="1"/>
                <p:nvPr/>
              </p:nvSpPr>
              <p:spPr>
                <a:xfrm>
                  <a:off x="5075280" y="3910320"/>
                  <a:ext cx="360" cy="7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560" bIns="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5866920" y="3910320"/>
                <a:ext cx="360" cy="72360"/>
                <a:chOff x="5866920" y="3910320"/>
                <a:chExt cx="360" cy="72360"/>
              </a:xfrm>
            </p:grpSpPr>
            <p:sp>
              <p:nvSpPr>
                <p:cNvPr id="1120" name="Line 30"/>
                <p:cNvSpPr/>
                <p:nvPr/>
              </p:nvSpPr>
              <p:spPr>
                <a:xfrm>
                  <a:off x="5866920" y="3910320"/>
                  <a:ext cx="360" cy="72360"/>
                </a:xfrm>
                <a:prstGeom prst="line">
                  <a:avLst/>
                </a:prstGeom>
                <a:ln w="1908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"/>
                <p:cNvSpPr txBox="1"/>
                <p:nvPr/>
              </p:nvSpPr>
              <p:spPr>
                <a:xfrm>
                  <a:off x="5866920" y="3910320"/>
                  <a:ext cx="360" cy="7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560" bIns="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AutoShape 31"/>
            <p:cNvSpPr/>
            <p:nvPr/>
          </p:nvSpPr>
          <p:spPr>
            <a:xfrm rot="16200000">
              <a:off x="4206600" y="2541240"/>
              <a:ext cx="144360" cy="317016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82080 h 3170160"/>
                <a:gd name="textAreaBottom" fmla="*/ 3088080 h 317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5"/>
                    <a:pt x="10800" y="1789"/>
                  </a:cubicBezTo>
                  <a:lnTo>
                    <a:pt x="10800" y="9011"/>
                  </a:lnTo>
                  <a:cubicBezTo>
                    <a:pt x="10800" y="9906"/>
                    <a:pt x="5400" y="10800"/>
                    <a:pt x="0" y="10800"/>
                  </a:cubicBezTo>
                  <a:cubicBezTo>
                    <a:pt x="5400" y="10800"/>
                    <a:pt x="10800" y="11695"/>
                    <a:pt x="10800" y="12589"/>
                  </a:cubicBezTo>
                  <a:lnTo>
                    <a:pt x="10800" y="19811"/>
                  </a:lnTo>
                  <a:cubicBezTo>
                    <a:pt x="10800" y="20706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Text Box 34"/>
            <p:cNvSpPr/>
            <p:nvPr/>
          </p:nvSpPr>
          <p:spPr>
            <a:xfrm>
              <a:off x="3786120" y="4132800"/>
              <a:ext cx="10080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?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元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组合 7"/>
          <p:cNvGrpSpPr/>
          <p:nvPr/>
        </p:nvGrpSpPr>
        <p:grpSpPr>
          <a:xfrm>
            <a:off x="2714760" y="1428840"/>
            <a:ext cx="4178160" cy="971640"/>
            <a:chOff x="2714760" y="1428840"/>
            <a:chExt cx="4178160" cy="971640"/>
          </a:xfrm>
        </p:grpSpPr>
        <p:sp>
          <p:nvSpPr>
            <p:cNvPr id="1125" name="AutoShape 27"/>
            <p:cNvSpPr/>
            <p:nvPr/>
          </p:nvSpPr>
          <p:spPr>
            <a:xfrm>
              <a:off x="2714760" y="1500120"/>
              <a:ext cx="3071160" cy="713880"/>
            </a:xfrm>
            <a:prstGeom prst="wedgeRoundRectCallout">
              <a:avLst>
                <a:gd name="adj1" fmla="val 61050"/>
                <a:gd name="adj2" fmla="val 168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可以画图帮助理解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6" name="Picture 2" descr="C:\Documents and Settings\Administrator\桌面\人\跳舞小女孩.tif跳舞小女孩"/>
            <p:cNvPicPr/>
            <p:nvPr/>
          </p:nvPicPr>
          <p:blipFill>
            <a:blip r:embed="rId8"/>
            <a:stretch/>
          </p:blipFill>
          <p:spPr>
            <a:xfrm>
              <a:off x="6207120" y="1428840"/>
              <a:ext cx="685800" cy="9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7" name="TextBox 40"/>
          <p:cNvSpPr/>
          <p:nvPr/>
        </p:nvSpPr>
        <p:spPr>
          <a:xfrm>
            <a:off x="441360" y="4714920"/>
            <a:ext cx="8059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想：要求象棋的价钱，就是求（   ）个（   ）是多少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38"/>
          <p:cNvSpPr/>
          <p:nvPr/>
        </p:nvSpPr>
        <p:spPr>
          <a:xfrm>
            <a:off x="3143160" y="5381640"/>
            <a:ext cx="235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8×4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＝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32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元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Box 42"/>
          <p:cNvSpPr/>
          <p:nvPr/>
        </p:nvSpPr>
        <p:spPr>
          <a:xfrm>
            <a:off x="5000760" y="4857840"/>
            <a:ext cx="500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Box 43"/>
          <p:cNvSpPr/>
          <p:nvPr/>
        </p:nvSpPr>
        <p:spPr>
          <a:xfrm>
            <a:off x="6429240" y="4857840"/>
            <a:ext cx="500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3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3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34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5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6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142" name="Picture 6" descr="D:\我的文档-桌面-收藏夹\桌面\1.jpg"/>
          <p:cNvPicPr/>
          <p:nvPr/>
        </p:nvPicPr>
        <p:blipFill>
          <a:blip r:embed="rId8"/>
          <a:stretch/>
        </p:blipFill>
        <p:spPr>
          <a:xfrm>
            <a:off x="1282680" y="1017720"/>
            <a:ext cx="3422520" cy="2482560"/>
          </a:xfrm>
          <a:prstGeom prst="rect">
            <a:avLst/>
          </a:prstGeom>
          <a:ln w="0">
            <a:noFill/>
          </a:ln>
        </p:spPr>
      </p:pic>
      <p:sp>
        <p:nvSpPr>
          <p:cNvPr id="1143" name="AutoShape 27"/>
          <p:cNvSpPr/>
          <p:nvPr/>
        </p:nvSpPr>
        <p:spPr>
          <a:xfrm>
            <a:off x="4002120" y="874800"/>
            <a:ext cx="3571920" cy="1071360"/>
          </a:xfrm>
          <a:prstGeom prst="wedgeRoundRectCallout">
            <a:avLst>
              <a:gd name="adj1" fmla="val -56972"/>
              <a:gd name="adj2" fmla="val 3964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军棋的价钱是</a:t>
            </a: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8</a:t>
            </a: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元，象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棋的价钱是军棋的</a:t>
            </a: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4</a:t>
            </a: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倍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Box 6"/>
          <p:cNvSpPr/>
          <p:nvPr/>
        </p:nvSpPr>
        <p:spPr>
          <a:xfrm>
            <a:off x="4073400" y="2143080"/>
            <a:ext cx="3571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象棋的价钱是多少元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八边形 3"/>
          <p:cNvSpPr/>
          <p:nvPr/>
        </p:nvSpPr>
        <p:spPr>
          <a:xfrm>
            <a:off x="324000" y="1004760"/>
            <a:ext cx="514080" cy="51768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Box 3"/>
          <p:cNvSpPr/>
          <p:nvPr/>
        </p:nvSpPr>
        <p:spPr>
          <a:xfrm>
            <a:off x="365040" y="3600360"/>
            <a:ext cx="3492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4f81bd"/>
                </a:solidFill>
                <a:latin typeface="宋体"/>
                <a:ea typeface="宋体"/>
              </a:rPr>
              <a:t>回顾与反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8"/>
          <p:cNvSpPr/>
          <p:nvPr/>
        </p:nvSpPr>
        <p:spPr>
          <a:xfrm>
            <a:off x="1724040" y="5640480"/>
            <a:ext cx="47307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答：象棋的价钱是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元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8" name="组合 10"/>
          <p:cNvGrpSpPr/>
          <p:nvPr/>
        </p:nvGrpSpPr>
        <p:grpSpPr>
          <a:xfrm>
            <a:off x="284040" y="4300560"/>
            <a:ext cx="3718080" cy="1339920"/>
            <a:chOff x="284040" y="4300560"/>
            <a:chExt cx="3718080" cy="1339920"/>
          </a:xfrm>
        </p:grpSpPr>
        <p:sp>
          <p:nvSpPr>
            <p:cNvPr id="1149" name="AutoShape 27"/>
            <p:cNvSpPr/>
            <p:nvPr/>
          </p:nvSpPr>
          <p:spPr>
            <a:xfrm>
              <a:off x="1573920" y="4480560"/>
              <a:ext cx="2428200" cy="576360"/>
            </a:xfrm>
            <a:prstGeom prst="wedgeRoundRectCallout">
              <a:avLst>
                <a:gd name="adj1" fmla="val -59083"/>
                <a:gd name="adj2" fmla="val -481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我们解答得对吗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0" name="图片 36" descr="_4`F[E$PX4I}_~SSZVJ7V4J"/>
            <p:cNvPicPr/>
            <p:nvPr/>
          </p:nvPicPr>
          <p:blipFill>
            <a:blip r:embed="rId9"/>
            <a:stretch/>
          </p:blipFill>
          <p:spPr>
            <a:xfrm flipH="1">
              <a:off x="284040" y="4300560"/>
              <a:ext cx="883440" cy="133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1" name="组合 7"/>
          <p:cNvGrpSpPr/>
          <p:nvPr/>
        </p:nvGrpSpPr>
        <p:grpSpPr>
          <a:xfrm>
            <a:off x="4384800" y="3441600"/>
            <a:ext cx="3813120" cy="989280"/>
            <a:chOff x="4384800" y="3441600"/>
            <a:chExt cx="3813120" cy="989280"/>
          </a:xfrm>
        </p:grpSpPr>
        <p:sp>
          <p:nvSpPr>
            <p:cNvPr id="1152" name="AutoShape 27"/>
            <p:cNvSpPr/>
            <p:nvPr/>
          </p:nvSpPr>
          <p:spPr>
            <a:xfrm>
              <a:off x="4384800" y="3628440"/>
              <a:ext cx="2807280" cy="496440"/>
            </a:xfrm>
            <a:prstGeom prst="wedgeRoundRectCallout">
              <a:avLst>
                <a:gd name="adj1" fmla="val 54726"/>
                <a:gd name="adj2" fmla="val -58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元是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元的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倍吗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3" name="图片 35" descr="]@P`{@U$K{A7A$9804YYMFT"/>
            <p:cNvPicPr/>
            <p:nvPr/>
          </p:nvPicPr>
          <p:blipFill>
            <a:blip r:embed="rId10"/>
            <a:stretch/>
          </p:blipFill>
          <p:spPr>
            <a:xfrm flipH="1">
              <a:off x="7421760" y="3441600"/>
              <a:ext cx="776160" cy="98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4" name="组合 9"/>
          <p:cNvGrpSpPr/>
          <p:nvPr/>
        </p:nvGrpSpPr>
        <p:grpSpPr>
          <a:xfrm>
            <a:off x="4258800" y="4430880"/>
            <a:ext cx="4272120" cy="1339560"/>
            <a:chOff x="4258800" y="4430880"/>
            <a:chExt cx="4272120" cy="1339560"/>
          </a:xfrm>
        </p:grpSpPr>
        <p:sp>
          <p:nvSpPr>
            <p:cNvPr id="1155" name="AutoShape 27"/>
            <p:cNvSpPr/>
            <p:nvPr/>
          </p:nvSpPr>
          <p:spPr>
            <a:xfrm flipH="1">
              <a:off x="4258440" y="4958640"/>
              <a:ext cx="3059640" cy="576000"/>
            </a:xfrm>
            <a:prstGeom prst="wedgeRoundRectCallout">
              <a:avLst>
                <a:gd name="adj1" fmla="val -58041"/>
                <a:gd name="adj2" fmla="val 344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32÷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＝</a:t>
              </a: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，解答正确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6" name="图片 8" descr="_4`F[E$PX4I}_~SSZVJ7V4J"/>
            <p:cNvPicPr/>
            <p:nvPr/>
          </p:nvPicPr>
          <p:blipFill>
            <a:blip r:embed="rId11"/>
            <a:stretch/>
          </p:blipFill>
          <p:spPr>
            <a:xfrm>
              <a:off x="7647120" y="4430880"/>
              <a:ext cx="883800" cy="1339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7" name="组合 2"/>
          <p:cNvGrpSpPr/>
          <p:nvPr/>
        </p:nvGrpSpPr>
        <p:grpSpPr>
          <a:xfrm>
            <a:off x="11160" y="85680"/>
            <a:ext cx="2751120" cy="525600"/>
            <a:chOff x="11160" y="85680"/>
            <a:chExt cx="2751120" cy="525600"/>
          </a:xfrm>
        </p:grpSpPr>
        <p:pic>
          <p:nvPicPr>
            <p:cNvPr id="1158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34280" y="85680"/>
              <a:ext cx="26280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9" name="组合 4"/>
            <p:cNvGrpSpPr/>
            <p:nvPr/>
          </p:nvGrpSpPr>
          <p:grpSpPr>
            <a:xfrm>
              <a:off x="11160" y="181440"/>
              <a:ext cx="362880" cy="272160"/>
              <a:chOff x="11160" y="181440"/>
              <a:chExt cx="362880" cy="272160"/>
            </a:xfrm>
          </p:grpSpPr>
          <p:sp>
            <p:nvSpPr>
              <p:cNvPr id="1160" name="椭圆 1"/>
              <p:cNvSpPr/>
              <p:nvPr/>
            </p:nvSpPr>
            <p:spPr>
              <a:xfrm rot="16200000">
                <a:off x="240120" y="345240"/>
                <a:ext cx="93960" cy="113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1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73880" y="323640"/>
                <a:ext cx="200160" cy="12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2" name="椭圆 29"/>
              <p:cNvSpPr/>
              <p:nvPr/>
            </p:nvSpPr>
            <p:spPr>
              <a:xfrm rot="16200000">
                <a:off x="240120" y="225000"/>
                <a:ext cx="93960" cy="113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73880" y="197640"/>
                <a:ext cx="200160" cy="12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342000"/>
                <a:ext cx="29232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310320"/>
                <a:ext cx="29232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760"/>
                <a:ext cx="29232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181440"/>
                <a:ext cx="292320" cy="111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68" name="圆角矩形 5"/>
          <p:cNvSpPr/>
          <p:nvPr/>
        </p:nvSpPr>
        <p:spPr>
          <a:xfrm>
            <a:off x="428760" y="-9360"/>
            <a:ext cx="2071440" cy="714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文本框 4"/>
          <p:cNvSpPr/>
          <p:nvPr/>
        </p:nvSpPr>
        <p:spPr>
          <a:xfrm>
            <a:off x="477720" y="1041480"/>
            <a:ext cx="416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先画一画，再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文本框 6"/>
          <p:cNvSpPr/>
          <p:nvPr/>
        </p:nvSpPr>
        <p:spPr>
          <a:xfrm>
            <a:off x="663480" y="1555920"/>
            <a:ext cx="14590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等腰三角形 8"/>
          <p:cNvSpPr/>
          <p:nvPr/>
        </p:nvSpPr>
        <p:spPr>
          <a:xfrm>
            <a:off x="2017800" y="1801800"/>
            <a:ext cx="287280" cy="287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文本框 9"/>
          <p:cNvSpPr/>
          <p:nvPr/>
        </p:nvSpPr>
        <p:spPr>
          <a:xfrm>
            <a:off x="2400480" y="1606680"/>
            <a:ext cx="3222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文本框 10"/>
          <p:cNvSpPr/>
          <p:nvPr/>
        </p:nvSpPr>
        <p:spPr>
          <a:xfrm>
            <a:off x="2722680" y="1606680"/>
            <a:ext cx="6015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等腰三角形 11"/>
          <p:cNvSpPr/>
          <p:nvPr/>
        </p:nvSpPr>
        <p:spPr>
          <a:xfrm>
            <a:off x="3227400" y="1801800"/>
            <a:ext cx="287280" cy="287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文本框 12"/>
          <p:cNvSpPr/>
          <p:nvPr/>
        </p:nvSpPr>
        <p:spPr>
          <a:xfrm>
            <a:off x="3632040" y="1719360"/>
            <a:ext cx="17100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个数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13"/>
          <p:cNvSpPr/>
          <p:nvPr/>
        </p:nvSpPr>
        <p:spPr>
          <a:xfrm>
            <a:off x="5054760" y="1816200"/>
            <a:ext cx="287280" cy="288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文本框 14"/>
          <p:cNvSpPr/>
          <p:nvPr/>
        </p:nvSpPr>
        <p:spPr>
          <a:xfrm>
            <a:off x="5541840" y="1755720"/>
            <a:ext cx="14367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文本框 15"/>
          <p:cNvSpPr/>
          <p:nvPr/>
        </p:nvSpPr>
        <p:spPr>
          <a:xfrm>
            <a:off x="663480" y="3670200"/>
            <a:ext cx="13557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椭圆 16"/>
          <p:cNvSpPr/>
          <p:nvPr/>
        </p:nvSpPr>
        <p:spPr>
          <a:xfrm>
            <a:off x="1981080" y="3801960"/>
            <a:ext cx="360360" cy="36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文本框 17"/>
          <p:cNvSpPr/>
          <p:nvPr/>
        </p:nvSpPr>
        <p:spPr>
          <a:xfrm>
            <a:off x="2440080" y="3740040"/>
            <a:ext cx="3222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文本框 18"/>
          <p:cNvSpPr/>
          <p:nvPr/>
        </p:nvSpPr>
        <p:spPr>
          <a:xfrm>
            <a:off x="2722680" y="3695760"/>
            <a:ext cx="6015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椭圆 19"/>
          <p:cNvSpPr/>
          <p:nvPr/>
        </p:nvSpPr>
        <p:spPr>
          <a:xfrm>
            <a:off x="3227400" y="3836880"/>
            <a:ext cx="360360" cy="36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文本框 20"/>
          <p:cNvSpPr/>
          <p:nvPr/>
        </p:nvSpPr>
        <p:spPr>
          <a:xfrm>
            <a:off x="3632040" y="3849840"/>
            <a:ext cx="17100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个数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4" name="图片 21" descr="3AL52{)XVGVA9EFELBMHEVU"/>
          <p:cNvPicPr/>
          <p:nvPr/>
        </p:nvPicPr>
        <p:blipFill>
          <a:blip r:embed="rId8"/>
          <a:stretch/>
        </p:blipFill>
        <p:spPr>
          <a:xfrm>
            <a:off x="4995720" y="3765600"/>
            <a:ext cx="547920" cy="514440"/>
          </a:xfrm>
          <a:prstGeom prst="rect">
            <a:avLst/>
          </a:prstGeom>
          <a:ln w="0">
            <a:noFill/>
          </a:ln>
        </p:spPr>
      </p:pic>
      <p:sp>
        <p:nvSpPr>
          <p:cNvPr id="1185" name="文本框 22"/>
          <p:cNvSpPr/>
          <p:nvPr/>
        </p:nvSpPr>
        <p:spPr>
          <a:xfrm>
            <a:off x="5511960" y="3740040"/>
            <a:ext cx="14364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矩形 23"/>
          <p:cNvSpPr/>
          <p:nvPr/>
        </p:nvSpPr>
        <p:spPr>
          <a:xfrm>
            <a:off x="1563840" y="2306520"/>
            <a:ext cx="287280" cy="287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矩形 24"/>
          <p:cNvSpPr/>
          <p:nvPr/>
        </p:nvSpPr>
        <p:spPr>
          <a:xfrm>
            <a:off x="2112840" y="2306520"/>
            <a:ext cx="287640" cy="287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矩形 25"/>
          <p:cNvSpPr/>
          <p:nvPr/>
        </p:nvSpPr>
        <p:spPr>
          <a:xfrm>
            <a:off x="2762280" y="2306520"/>
            <a:ext cx="287280" cy="287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矩形 26"/>
          <p:cNvSpPr/>
          <p:nvPr/>
        </p:nvSpPr>
        <p:spPr>
          <a:xfrm>
            <a:off x="3344760" y="2306520"/>
            <a:ext cx="287280" cy="287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文本框 27"/>
          <p:cNvSpPr/>
          <p:nvPr/>
        </p:nvSpPr>
        <p:spPr>
          <a:xfrm>
            <a:off x="1143000" y="3156120"/>
            <a:ext cx="43290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1" name="图片 36" descr="3AL52{)XVGVA9EFELBMHEVU"/>
          <p:cNvPicPr/>
          <p:nvPr/>
        </p:nvPicPr>
        <p:blipFill>
          <a:blip r:embed="rId9"/>
          <a:stretch/>
        </p:blipFill>
        <p:spPr>
          <a:xfrm>
            <a:off x="1433520" y="4460760"/>
            <a:ext cx="547560" cy="514440"/>
          </a:xfrm>
          <a:prstGeom prst="rect">
            <a:avLst/>
          </a:prstGeom>
          <a:ln w="0">
            <a:noFill/>
          </a:ln>
        </p:spPr>
      </p:pic>
      <p:pic>
        <p:nvPicPr>
          <p:cNvPr id="1192" name="图片 37" descr="3AL52{)XVGVA9EFELBMHEVU"/>
          <p:cNvPicPr/>
          <p:nvPr/>
        </p:nvPicPr>
        <p:blipFill>
          <a:blip r:embed="rId10"/>
          <a:stretch/>
        </p:blipFill>
        <p:spPr>
          <a:xfrm>
            <a:off x="2103480" y="4460760"/>
            <a:ext cx="547560" cy="514440"/>
          </a:xfrm>
          <a:prstGeom prst="rect">
            <a:avLst/>
          </a:prstGeom>
          <a:ln w="0">
            <a:noFill/>
          </a:ln>
        </p:spPr>
      </p:pic>
      <p:pic>
        <p:nvPicPr>
          <p:cNvPr id="1193" name="图片 38" descr="3AL52{)XVGVA9EFELBMHEVU"/>
          <p:cNvPicPr/>
          <p:nvPr/>
        </p:nvPicPr>
        <p:blipFill>
          <a:blip r:embed="rId11"/>
          <a:stretch/>
        </p:blipFill>
        <p:spPr>
          <a:xfrm>
            <a:off x="2795760" y="4460760"/>
            <a:ext cx="549000" cy="514440"/>
          </a:xfrm>
          <a:prstGeom prst="rect">
            <a:avLst/>
          </a:prstGeom>
          <a:ln w="0">
            <a:noFill/>
          </a:ln>
        </p:spPr>
      </p:pic>
      <p:sp>
        <p:nvSpPr>
          <p:cNvPr id="1194" name="矩形 39"/>
          <p:cNvSpPr/>
          <p:nvPr/>
        </p:nvSpPr>
        <p:spPr>
          <a:xfrm>
            <a:off x="1442880" y="3235320"/>
            <a:ext cx="576360" cy="504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矩形 40"/>
          <p:cNvSpPr/>
          <p:nvPr/>
        </p:nvSpPr>
        <p:spPr>
          <a:xfrm>
            <a:off x="2795760" y="3235320"/>
            <a:ext cx="576000" cy="504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矩形 41"/>
          <p:cNvSpPr/>
          <p:nvPr/>
        </p:nvSpPr>
        <p:spPr>
          <a:xfrm>
            <a:off x="4070520" y="3235320"/>
            <a:ext cx="576000" cy="504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42"/>
          <p:cNvSpPr/>
          <p:nvPr/>
        </p:nvSpPr>
        <p:spPr>
          <a:xfrm>
            <a:off x="1442880" y="5756400"/>
            <a:ext cx="576360" cy="503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矩形 43"/>
          <p:cNvSpPr/>
          <p:nvPr/>
        </p:nvSpPr>
        <p:spPr>
          <a:xfrm>
            <a:off x="2795760" y="5756400"/>
            <a:ext cx="576000" cy="503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矩形 44"/>
          <p:cNvSpPr/>
          <p:nvPr/>
        </p:nvSpPr>
        <p:spPr>
          <a:xfrm>
            <a:off x="4070520" y="5756400"/>
            <a:ext cx="576000" cy="503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椭圆 45"/>
          <p:cNvSpPr/>
          <p:nvPr/>
        </p:nvSpPr>
        <p:spPr>
          <a:xfrm>
            <a:off x="2146320" y="5683320"/>
            <a:ext cx="576360" cy="576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椭圆 46"/>
          <p:cNvSpPr/>
          <p:nvPr/>
        </p:nvSpPr>
        <p:spPr>
          <a:xfrm>
            <a:off x="2122560" y="3191040"/>
            <a:ext cx="576360" cy="574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文本框 47"/>
          <p:cNvSpPr/>
          <p:nvPr/>
        </p:nvSpPr>
        <p:spPr>
          <a:xfrm>
            <a:off x="3514680" y="5775480"/>
            <a:ext cx="457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文本框 48"/>
          <p:cNvSpPr/>
          <p:nvPr/>
        </p:nvSpPr>
        <p:spPr>
          <a:xfrm>
            <a:off x="3514680" y="3232080"/>
            <a:ext cx="4572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4" name="组合 3"/>
          <p:cNvGrpSpPr/>
          <p:nvPr/>
        </p:nvGrpSpPr>
        <p:grpSpPr>
          <a:xfrm>
            <a:off x="1012680" y="2763720"/>
            <a:ext cx="5935680" cy="392400"/>
            <a:chOff x="1012680" y="2763720"/>
            <a:chExt cx="5935680" cy="392400"/>
          </a:xfrm>
        </p:grpSpPr>
        <p:sp>
          <p:nvSpPr>
            <p:cNvPr id="1205" name="直接连接符 28"/>
            <p:cNvSpPr/>
            <p:nvPr/>
          </p:nvSpPr>
          <p:spPr>
            <a:xfrm flipV="1">
              <a:off x="1012680" y="3140280"/>
              <a:ext cx="5935680" cy="158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等腰三角形 49"/>
            <p:cNvSpPr/>
            <p:nvPr/>
          </p:nvSpPr>
          <p:spPr>
            <a:xfrm>
              <a:off x="1320480" y="2763720"/>
              <a:ext cx="286920" cy="286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等腰三角形 50"/>
            <p:cNvSpPr/>
            <p:nvPr/>
          </p:nvSpPr>
          <p:spPr>
            <a:xfrm>
              <a:off x="1730160" y="2763720"/>
              <a:ext cx="288720" cy="286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等腰三角形 51"/>
            <p:cNvSpPr/>
            <p:nvPr/>
          </p:nvSpPr>
          <p:spPr>
            <a:xfrm>
              <a:off x="2121840" y="2763720"/>
              <a:ext cx="286920" cy="286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等腰三角形 52"/>
            <p:cNvSpPr/>
            <p:nvPr/>
          </p:nvSpPr>
          <p:spPr>
            <a:xfrm>
              <a:off x="2499840" y="2763720"/>
              <a:ext cx="286920" cy="286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等腰三角形 53"/>
            <p:cNvSpPr/>
            <p:nvPr/>
          </p:nvSpPr>
          <p:spPr>
            <a:xfrm>
              <a:off x="3163320" y="2763720"/>
              <a:ext cx="286920" cy="286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等腰三角形 54"/>
            <p:cNvSpPr/>
            <p:nvPr/>
          </p:nvSpPr>
          <p:spPr>
            <a:xfrm>
              <a:off x="3550680" y="2763720"/>
              <a:ext cx="286920" cy="286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等腰三角形 55"/>
            <p:cNvSpPr/>
            <p:nvPr/>
          </p:nvSpPr>
          <p:spPr>
            <a:xfrm>
              <a:off x="3971880" y="2763720"/>
              <a:ext cx="286920" cy="286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等腰三角形 56"/>
            <p:cNvSpPr/>
            <p:nvPr/>
          </p:nvSpPr>
          <p:spPr>
            <a:xfrm>
              <a:off x="4343400" y="2763720"/>
              <a:ext cx="286920" cy="286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等腰三角形 57"/>
            <p:cNvSpPr/>
            <p:nvPr/>
          </p:nvSpPr>
          <p:spPr>
            <a:xfrm>
              <a:off x="5184720" y="2763720"/>
              <a:ext cx="286920" cy="286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等腰三角形 58"/>
            <p:cNvSpPr/>
            <p:nvPr/>
          </p:nvSpPr>
          <p:spPr>
            <a:xfrm>
              <a:off x="5614920" y="2763720"/>
              <a:ext cx="286920" cy="286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等腰三角形 59"/>
            <p:cNvSpPr/>
            <p:nvPr/>
          </p:nvSpPr>
          <p:spPr>
            <a:xfrm>
              <a:off x="5985000" y="2763720"/>
              <a:ext cx="286920" cy="286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等腰三角形 60"/>
            <p:cNvSpPr/>
            <p:nvPr/>
          </p:nvSpPr>
          <p:spPr>
            <a:xfrm>
              <a:off x="6367320" y="2763720"/>
              <a:ext cx="286920" cy="286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8" name="文本框 76"/>
          <p:cNvSpPr/>
          <p:nvPr/>
        </p:nvSpPr>
        <p:spPr>
          <a:xfrm>
            <a:off x="260280" y="5516640"/>
            <a:ext cx="7264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9" name="组合 4"/>
          <p:cNvGrpSpPr/>
          <p:nvPr/>
        </p:nvGrpSpPr>
        <p:grpSpPr>
          <a:xfrm>
            <a:off x="1111320" y="5108400"/>
            <a:ext cx="7264440" cy="490680"/>
            <a:chOff x="1111320" y="5108400"/>
            <a:chExt cx="7264440" cy="490680"/>
          </a:xfrm>
        </p:grpSpPr>
        <p:sp>
          <p:nvSpPr>
            <p:cNvPr id="1220" name="椭圆 61"/>
            <p:cNvSpPr/>
            <p:nvPr/>
          </p:nvSpPr>
          <p:spPr>
            <a:xfrm>
              <a:off x="1320840" y="5108400"/>
              <a:ext cx="36000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椭圆 62"/>
            <p:cNvSpPr/>
            <p:nvPr/>
          </p:nvSpPr>
          <p:spPr>
            <a:xfrm>
              <a:off x="1730160" y="5108400"/>
              <a:ext cx="36000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椭圆 63"/>
            <p:cNvSpPr/>
            <p:nvPr/>
          </p:nvSpPr>
          <p:spPr>
            <a:xfrm>
              <a:off x="2146320" y="5108400"/>
              <a:ext cx="36000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椭圆 64"/>
            <p:cNvSpPr/>
            <p:nvPr/>
          </p:nvSpPr>
          <p:spPr>
            <a:xfrm>
              <a:off x="2762280" y="5108400"/>
              <a:ext cx="3585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椭圆 65"/>
            <p:cNvSpPr/>
            <p:nvPr/>
          </p:nvSpPr>
          <p:spPr>
            <a:xfrm>
              <a:off x="3163680" y="5108400"/>
              <a:ext cx="36000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椭圆 66"/>
            <p:cNvSpPr/>
            <p:nvPr/>
          </p:nvSpPr>
          <p:spPr>
            <a:xfrm>
              <a:off x="3587760" y="5108400"/>
              <a:ext cx="36000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椭圆 67"/>
            <p:cNvSpPr/>
            <p:nvPr/>
          </p:nvSpPr>
          <p:spPr>
            <a:xfrm>
              <a:off x="4178160" y="5108400"/>
              <a:ext cx="36000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椭圆 68"/>
            <p:cNvSpPr/>
            <p:nvPr/>
          </p:nvSpPr>
          <p:spPr>
            <a:xfrm>
              <a:off x="4563720" y="5108400"/>
              <a:ext cx="36000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椭圆 69"/>
            <p:cNvSpPr/>
            <p:nvPr/>
          </p:nvSpPr>
          <p:spPr>
            <a:xfrm>
              <a:off x="4981680" y="5108400"/>
              <a:ext cx="36000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椭圆 70"/>
            <p:cNvSpPr/>
            <p:nvPr/>
          </p:nvSpPr>
          <p:spPr>
            <a:xfrm>
              <a:off x="5578560" y="5108400"/>
              <a:ext cx="36000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椭圆 71"/>
            <p:cNvSpPr/>
            <p:nvPr/>
          </p:nvSpPr>
          <p:spPr>
            <a:xfrm>
              <a:off x="5985000" y="5108400"/>
              <a:ext cx="36000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椭圆 72"/>
            <p:cNvSpPr/>
            <p:nvPr/>
          </p:nvSpPr>
          <p:spPr>
            <a:xfrm>
              <a:off x="6367320" y="5108400"/>
              <a:ext cx="36000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椭圆 73"/>
            <p:cNvSpPr/>
            <p:nvPr/>
          </p:nvSpPr>
          <p:spPr>
            <a:xfrm>
              <a:off x="7096320" y="5108400"/>
              <a:ext cx="3585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椭圆 74"/>
            <p:cNvSpPr/>
            <p:nvPr/>
          </p:nvSpPr>
          <p:spPr>
            <a:xfrm>
              <a:off x="7537680" y="5108400"/>
              <a:ext cx="36000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椭圆 75"/>
            <p:cNvSpPr/>
            <p:nvPr/>
          </p:nvSpPr>
          <p:spPr>
            <a:xfrm>
              <a:off x="7944120" y="5108400"/>
              <a:ext cx="3585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直接连接符 77"/>
            <p:cNvSpPr/>
            <p:nvPr/>
          </p:nvSpPr>
          <p:spPr>
            <a:xfrm>
              <a:off x="1111320" y="5599080"/>
              <a:ext cx="72644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6" name="文本框 78"/>
          <p:cNvSpPr/>
          <p:nvPr/>
        </p:nvSpPr>
        <p:spPr>
          <a:xfrm>
            <a:off x="1447920" y="3198960"/>
            <a:ext cx="5698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文本框 80"/>
          <p:cNvSpPr/>
          <p:nvPr/>
        </p:nvSpPr>
        <p:spPr>
          <a:xfrm>
            <a:off x="2787480" y="3156120"/>
            <a:ext cx="5716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文本框 81"/>
          <p:cNvSpPr/>
          <p:nvPr/>
        </p:nvSpPr>
        <p:spPr>
          <a:xfrm>
            <a:off x="2151000" y="3198960"/>
            <a:ext cx="5191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文本框 82"/>
          <p:cNvSpPr/>
          <p:nvPr/>
        </p:nvSpPr>
        <p:spPr>
          <a:xfrm>
            <a:off x="3971880" y="3174840"/>
            <a:ext cx="8683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文本框 83"/>
          <p:cNvSpPr/>
          <p:nvPr/>
        </p:nvSpPr>
        <p:spPr>
          <a:xfrm>
            <a:off x="1469880" y="5683320"/>
            <a:ext cx="5716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文本框 84"/>
          <p:cNvSpPr/>
          <p:nvPr/>
        </p:nvSpPr>
        <p:spPr>
          <a:xfrm>
            <a:off x="2881440" y="5683320"/>
            <a:ext cx="5698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文本框 85"/>
          <p:cNvSpPr/>
          <p:nvPr/>
        </p:nvSpPr>
        <p:spPr>
          <a:xfrm>
            <a:off x="2174760" y="5683320"/>
            <a:ext cx="5176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文本框 86"/>
          <p:cNvSpPr/>
          <p:nvPr/>
        </p:nvSpPr>
        <p:spPr>
          <a:xfrm>
            <a:off x="4052880" y="5719680"/>
            <a:ext cx="868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4" name="组合 2"/>
          <p:cNvGrpSpPr/>
          <p:nvPr/>
        </p:nvGrpSpPr>
        <p:grpSpPr>
          <a:xfrm>
            <a:off x="11160" y="85680"/>
            <a:ext cx="2751120" cy="525600"/>
            <a:chOff x="11160" y="85680"/>
            <a:chExt cx="2751120" cy="525600"/>
          </a:xfrm>
        </p:grpSpPr>
        <p:pic>
          <p:nvPicPr>
            <p:cNvPr id="124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34280" y="85680"/>
              <a:ext cx="26280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6" name="组合 4"/>
            <p:cNvGrpSpPr/>
            <p:nvPr/>
          </p:nvGrpSpPr>
          <p:grpSpPr>
            <a:xfrm>
              <a:off x="11160" y="181440"/>
              <a:ext cx="362880" cy="272160"/>
              <a:chOff x="11160" y="181440"/>
              <a:chExt cx="362880" cy="272160"/>
            </a:xfrm>
          </p:grpSpPr>
          <p:sp>
            <p:nvSpPr>
              <p:cNvPr id="1247" name="椭圆 1"/>
              <p:cNvSpPr/>
              <p:nvPr/>
            </p:nvSpPr>
            <p:spPr>
              <a:xfrm rot="16200000">
                <a:off x="240120" y="345240"/>
                <a:ext cx="93960" cy="113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48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73880" y="323640"/>
                <a:ext cx="200160" cy="12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椭圆 29"/>
              <p:cNvSpPr/>
              <p:nvPr/>
            </p:nvSpPr>
            <p:spPr>
              <a:xfrm rot="16200000">
                <a:off x="240120" y="225000"/>
                <a:ext cx="93960" cy="113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5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73880" y="197640"/>
                <a:ext cx="200160" cy="12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342000"/>
                <a:ext cx="29232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310320"/>
                <a:ext cx="29232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760"/>
                <a:ext cx="29232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181440"/>
                <a:ext cx="292320" cy="111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55" name="圆角矩形 5"/>
          <p:cNvSpPr/>
          <p:nvPr/>
        </p:nvSpPr>
        <p:spPr>
          <a:xfrm>
            <a:off x="428760" y="-9360"/>
            <a:ext cx="2071440" cy="714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文本框 3"/>
          <p:cNvSpPr/>
          <p:nvPr/>
        </p:nvSpPr>
        <p:spPr>
          <a:xfrm>
            <a:off x="590400" y="520560"/>
            <a:ext cx="35388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丽跳了多少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7" name="组合 16"/>
          <p:cNvGrpSpPr/>
          <p:nvPr/>
        </p:nvGrpSpPr>
        <p:grpSpPr>
          <a:xfrm>
            <a:off x="428400" y="1415880"/>
            <a:ext cx="7888680" cy="2054520"/>
            <a:chOff x="428400" y="1415880"/>
            <a:chExt cx="7888680" cy="2054520"/>
          </a:xfrm>
        </p:grpSpPr>
        <p:pic>
          <p:nvPicPr>
            <p:cNvPr id="1258" name="图片 6" descr="KLJQR_N[BV8M~9I$$53V981"/>
            <p:cNvPicPr/>
            <p:nvPr/>
          </p:nvPicPr>
          <p:blipFill>
            <a:blip r:embed="rId8"/>
            <a:stretch/>
          </p:blipFill>
          <p:spPr>
            <a:xfrm>
              <a:off x="4182120" y="1563120"/>
              <a:ext cx="1389960" cy="167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9" name="图片 8" descr="L7F1C5`_RF$D@243BNH20)F"/>
            <p:cNvPicPr/>
            <p:nvPr/>
          </p:nvPicPr>
          <p:blipFill>
            <a:blip r:embed="rId9"/>
            <a:stretch/>
          </p:blipFill>
          <p:spPr>
            <a:xfrm flipH="1">
              <a:off x="428400" y="1563120"/>
              <a:ext cx="2554200" cy="96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0" name="文本框 9"/>
            <p:cNvSpPr/>
            <p:nvPr/>
          </p:nvSpPr>
          <p:spPr>
            <a:xfrm>
              <a:off x="913680" y="1667520"/>
              <a:ext cx="1565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我跳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9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下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1" name="图片 4" descr="@@0(G$_S@HL6PV5@U49@{28"/>
            <p:cNvPicPr/>
            <p:nvPr/>
          </p:nvPicPr>
          <p:blipFill>
            <a:blip r:embed="rId10"/>
            <a:stretch/>
          </p:blipFill>
          <p:spPr>
            <a:xfrm>
              <a:off x="2982960" y="1415880"/>
              <a:ext cx="1442520" cy="15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2" name="图片 7" descr="L7F1C5`_RF$D@243BNH20)F"/>
            <p:cNvPicPr/>
            <p:nvPr/>
          </p:nvPicPr>
          <p:blipFill>
            <a:blip r:embed="rId11"/>
            <a:stretch/>
          </p:blipFill>
          <p:spPr>
            <a:xfrm>
              <a:off x="5416560" y="1428480"/>
              <a:ext cx="2900520" cy="131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3" name="文本框 10"/>
            <p:cNvSpPr/>
            <p:nvPr/>
          </p:nvSpPr>
          <p:spPr>
            <a:xfrm>
              <a:off x="6105960" y="1593360"/>
              <a:ext cx="1906200" cy="9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我跳的个数是你的</a:t>
              </a: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倍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文本框 13"/>
            <p:cNvSpPr/>
            <p:nvPr/>
          </p:nvSpPr>
          <p:spPr>
            <a:xfrm>
              <a:off x="3280320" y="2911680"/>
              <a:ext cx="901440" cy="49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小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文本框 14"/>
            <p:cNvSpPr/>
            <p:nvPr/>
          </p:nvSpPr>
          <p:spPr>
            <a:xfrm>
              <a:off x="4514760" y="2971440"/>
              <a:ext cx="901440" cy="49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小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6" name="文本框 15"/>
          <p:cNvSpPr/>
          <p:nvPr/>
        </p:nvSpPr>
        <p:spPr>
          <a:xfrm>
            <a:off x="1800360" y="5041800"/>
            <a:ext cx="3446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答：小丽跳了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18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文本框 17"/>
          <p:cNvSpPr/>
          <p:nvPr/>
        </p:nvSpPr>
        <p:spPr>
          <a:xfrm>
            <a:off x="2654280" y="4156200"/>
            <a:ext cx="243684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=18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组合 2"/>
          <p:cNvGrpSpPr/>
          <p:nvPr/>
        </p:nvGrpSpPr>
        <p:grpSpPr>
          <a:xfrm>
            <a:off x="11160" y="85680"/>
            <a:ext cx="2751120" cy="525600"/>
            <a:chOff x="11160" y="85680"/>
            <a:chExt cx="2751120" cy="525600"/>
          </a:xfrm>
        </p:grpSpPr>
        <p:pic>
          <p:nvPicPr>
            <p:cNvPr id="126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34280" y="85680"/>
              <a:ext cx="26280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0" name="组合 4"/>
            <p:cNvGrpSpPr/>
            <p:nvPr/>
          </p:nvGrpSpPr>
          <p:grpSpPr>
            <a:xfrm>
              <a:off x="11160" y="180720"/>
              <a:ext cx="362880" cy="273960"/>
              <a:chOff x="11160" y="180720"/>
              <a:chExt cx="362880" cy="273960"/>
            </a:xfrm>
          </p:grpSpPr>
          <p:sp>
            <p:nvSpPr>
              <p:cNvPr id="1271" name="椭圆 1"/>
              <p:cNvSpPr/>
              <p:nvPr/>
            </p:nvSpPr>
            <p:spPr>
              <a:xfrm rot="16200000">
                <a:off x="239760" y="345960"/>
                <a:ext cx="94320" cy="113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2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73880" y="324000"/>
                <a:ext cx="200160" cy="12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3" name="椭圆 29"/>
              <p:cNvSpPr/>
              <p:nvPr/>
            </p:nvSpPr>
            <p:spPr>
              <a:xfrm rot="16200000">
                <a:off x="239760" y="225000"/>
                <a:ext cx="94320" cy="113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73880" y="196920"/>
                <a:ext cx="200160" cy="12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342360"/>
                <a:ext cx="29232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310320"/>
                <a:ext cx="29232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400"/>
                <a:ext cx="29232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180720"/>
                <a:ext cx="292320" cy="112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79" name="圆角矩形 5"/>
          <p:cNvSpPr/>
          <p:nvPr/>
        </p:nvSpPr>
        <p:spPr>
          <a:xfrm>
            <a:off x="428760" y="-9360"/>
            <a:ext cx="2071440" cy="714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文本框 3"/>
          <p:cNvSpPr/>
          <p:nvPr/>
        </p:nvSpPr>
        <p:spPr>
          <a:xfrm>
            <a:off x="673200" y="2306520"/>
            <a:ext cx="703584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求一个数的几倍是多少，就是求几个相同加数的和，即求几个几是多少，用乘法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文本框 4"/>
          <p:cNvSpPr/>
          <p:nvPr/>
        </p:nvSpPr>
        <p:spPr>
          <a:xfrm>
            <a:off x="1428840" y="1355760"/>
            <a:ext cx="55227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求一个数的几倍是多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83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4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285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6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93" name="文本框 99"/>
          <p:cNvSpPr/>
          <p:nvPr/>
        </p:nvSpPr>
        <p:spPr>
          <a:xfrm>
            <a:off x="279360" y="777960"/>
            <a:ext cx="8475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 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是（　 ）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是（　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　 ）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（　 ）倍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 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是（　 ）个（　 ），算式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　　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 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以说成（　 ）的（　 ）倍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                    可以说成（　 ）个（　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文本框 3"/>
          <p:cNvSpPr/>
          <p:nvPr/>
        </p:nvSpPr>
        <p:spPr>
          <a:xfrm>
            <a:off x="3375000" y="1450800"/>
            <a:ext cx="6984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文本框 4"/>
          <p:cNvSpPr/>
          <p:nvPr/>
        </p:nvSpPr>
        <p:spPr>
          <a:xfrm>
            <a:off x="6367320" y="1450800"/>
            <a:ext cx="7002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文本框 6"/>
          <p:cNvSpPr/>
          <p:nvPr/>
        </p:nvSpPr>
        <p:spPr>
          <a:xfrm>
            <a:off x="1566720" y="2116080"/>
            <a:ext cx="69876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文本框 7"/>
          <p:cNvSpPr/>
          <p:nvPr/>
        </p:nvSpPr>
        <p:spPr>
          <a:xfrm>
            <a:off x="5302080" y="2116080"/>
            <a:ext cx="69876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文本框 8"/>
          <p:cNvSpPr/>
          <p:nvPr/>
        </p:nvSpPr>
        <p:spPr>
          <a:xfrm>
            <a:off x="3375000" y="2781360"/>
            <a:ext cx="6984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文本框 9"/>
          <p:cNvSpPr/>
          <p:nvPr/>
        </p:nvSpPr>
        <p:spPr>
          <a:xfrm>
            <a:off x="5073480" y="2782800"/>
            <a:ext cx="69876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文本框 10"/>
          <p:cNvSpPr/>
          <p:nvPr/>
        </p:nvSpPr>
        <p:spPr>
          <a:xfrm>
            <a:off x="1830240" y="3448080"/>
            <a:ext cx="6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文本框 11"/>
          <p:cNvSpPr/>
          <p:nvPr/>
        </p:nvSpPr>
        <p:spPr>
          <a:xfrm>
            <a:off x="4073400" y="4087800"/>
            <a:ext cx="69876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文本框 12"/>
          <p:cNvSpPr/>
          <p:nvPr/>
        </p:nvSpPr>
        <p:spPr>
          <a:xfrm>
            <a:off x="5681520" y="4087800"/>
            <a:ext cx="7002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文本框 13"/>
          <p:cNvSpPr/>
          <p:nvPr/>
        </p:nvSpPr>
        <p:spPr>
          <a:xfrm>
            <a:off x="2265480" y="4684680"/>
            <a:ext cx="69984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文本框 14"/>
          <p:cNvSpPr/>
          <p:nvPr/>
        </p:nvSpPr>
        <p:spPr>
          <a:xfrm>
            <a:off x="3781440" y="4753080"/>
            <a:ext cx="69840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6:43:49Z</dcterms:created>
  <dc:creator/>
  <dc:description/>
  <dc:language>en-US</dc:language>
  <cp:lastModifiedBy>万润仪器贸易公司</cp:lastModifiedBy>
  <dcterms:modified xsi:type="dcterms:W3CDTF">2020-08-21T01:21:58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